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E6B-8F64-4F37-954A-F7B14D82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502-0B14-4193-B2AD-38B10685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0E2-3263-409F-8D35-33E619AB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BCA-D5DD-4813-A9D3-11D66C16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479-732B-4729-9CF3-87A6A47A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13C-B69A-4F16-854B-BCF9283F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33A-0C2E-4AED-A8E0-B773EEBC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8EA-954A-4B5B-AAA7-3EF88EC6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AAE-3CA9-4EED-BC47-881F7E00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FA9-1589-4B47-A382-BAFA25DC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EF9-C7E1-46C4-8CE4-FA954AF3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DD3-09B4-463C-9F1B-A68877E0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0B88-7F79-402C-9161-DBD71482D598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își asume roluri în g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realizeze corect sarci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fie crea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consulte sursele de informare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interpreteze faptele în mod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ă respecte normele gramaticale și cerințele de redac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Dreptunghi 4"/>
          <p:cNvSpPr/>
          <p:nvPr/>
        </p:nvSpPr>
        <p:spPr>
          <a:xfrm>
            <a:off x="411480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029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  <a:ea typeface="Arial"/>
              </a:rPr>
              <a:t>Sarcini de rea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Rezultate aștepta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evii trebuie să ș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citească cursiv, fluent și expresiv a textul - su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răspundă corect la întrebări pe marginea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identifice corect tema și motivele din opera litera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interpreteze corect sensul unor cuvi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realizeze un eseu și un portofol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prezinte oral produsele activităț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utilizeze resursele tehnice : calculator,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ă colaboreze ca parte a unei echipe pentru realizarea sarcin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7:03:23Z</dcterms:created>
  <dc:creator>Profesor</dc:creator>
  <dc:description/>
  <dc:language>en-US</dc:language>
  <cp:lastModifiedBy>user</cp:lastModifiedBy>
  <dcterms:modified xsi:type="dcterms:W3CDTF">2010-08-23T08:27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