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82B-F97C-49AC-AEDC-6823108E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CEE-3041-4C64-AC8B-B1291455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5B1-B6D9-4A1A-97A2-688FC2D7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20C-E0C8-4691-91E9-247E5770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B78-BC05-4B85-8C7E-512D6607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F86-9F92-4851-9B7A-A098DCCC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FB5-0CC9-4F62-8978-4CA09A64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DBB-990A-4259-A2B5-856D6C9A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827-7E13-4DD8-B225-3AB1DFA5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272-BC5B-41DA-A809-F461255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3F6-ECB5-4C87-98D0-6D3F3751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FA1-30C3-42A9-B183-693E2C42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D90C-1703-49E7-8DCB-F0065F6A8CE9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26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își asume roluri în g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realizeze corect sarci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fie crea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consulte sursele de informare ind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interpreteze faptele în mod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respecte normele gramaticale și cerințele de redac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Dreptunghi 4"/>
          <p:cNvSpPr/>
          <p:nvPr/>
        </p:nvSpPr>
        <p:spPr>
          <a:xfrm>
            <a:off x="411480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029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  <a:ea typeface="Arial"/>
              </a:rPr>
              <a:t>Sarcini de rea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Rezultate aștepta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evii trebuie să ș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citească cursiv, fluent și expresiv a textul - su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răspundă corect la întrebări pe marginea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identifice corect tema și motivele din opera litera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interpreteze corect sensul unor cuvi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realizeze un eseu și un portofol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prezinte oral produsele activităț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utilizeze resursele tehnice : calculator,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colaboreze ca parte a unei echipe pentru realizarea sarcin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7:03:23Z</dcterms:created>
  <dc:creator>Profesor</dc:creator>
  <dc:description/>
  <dc:language>en-US</dc:language>
  <cp:lastModifiedBy>user</cp:lastModifiedBy>
  <dcterms:modified xsi:type="dcterms:W3CDTF">2010-08-23T08:27:3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