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EA8-1971-4EAD-83F0-18EB699F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305-7497-4FF7-B4D0-2DD4EA17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3D0-1074-4E72-8A8F-98D465C4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89D-AC1F-48B6-BA65-D9C5871D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74F-666E-4C06-BC64-5F31B6C0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729-23E7-4D28-934E-151827CD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4B4-B1ED-4676-81CB-4ED73B5E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DAC-FD97-4B4E-8D9B-704FB8D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6FE-02E0-42F6-95A0-AE55FF36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B0F-770A-4044-8E95-CFBC7155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86B-53A3-41F7-B134-7A294893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6A0-20AE-4CEB-AD54-7A37D43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26FA-EE65-45B2-9486-F2175C325BBD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își asume roluri în g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realizeze corect sarci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fie crea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consulte sursele de informare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interpreteze faptele în mod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respecte normele gramaticale și cerințele de redac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Dreptunghi 4"/>
          <p:cNvSpPr/>
          <p:nvPr/>
        </p:nvSpPr>
        <p:spPr>
          <a:xfrm>
            <a:off x="411480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029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  <a:ea typeface="Arial"/>
              </a:rPr>
              <a:t>Sarcini de rea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Rezultate aștepta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evii trebuie să ș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citească cursiv, fluent și expresiv a textul - su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răspundă corect la întrebări pe marginea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identifice corect tema și motivele din opera litera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interpreteze corect sensul unor cuvi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realizeze un eseu și un portofol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prezinte oral produsele activităț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utilizeze resursele tehnice : calculator,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colaboreze ca parte a unei echipe pentru realizarea sarcin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7:03:23Z</dcterms:created>
  <dc:creator>Profesor</dc:creator>
  <dc:description/>
  <dc:language>en-US</dc:language>
  <cp:lastModifiedBy>user</cp:lastModifiedBy>
  <dcterms:modified xsi:type="dcterms:W3CDTF">2010-08-23T08:27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