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3ED-51C0-457C-AD2D-50088104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2F9-87C3-4174-98AF-FCD395F9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F34-41A7-4EAB-AA73-AAA2FE11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204-E06D-423E-8EF1-E087F2D9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5FC-8CCB-476E-A4A9-BA1ABA8D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1A1-04FF-4564-A171-5FA974F2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EF9-F106-43F8-8589-E6BE515A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F91-3C0D-4694-9661-EF94983D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389-4C46-4C9B-AC9C-D9746F12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88F-67AC-4584-ADAE-736D787C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0D2-97C4-4BBA-9FCB-ED7BEE12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7AC-D754-4F56-B6E3-06B6038B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EE9B-66AA-4968-AAC1-4EE8E3AB0C40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26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își asume roluri în g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realizeze corect sarci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fie crea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consulte sursele de informare ind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interpreteze faptele în mod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respecte normele gramaticale și cerințele de redac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Dreptunghi 4"/>
          <p:cNvSpPr/>
          <p:nvPr/>
        </p:nvSpPr>
        <p:spPr>
          <a:xfrm>
            <a:off x="411480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029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  <a:ea typeface="Arial"/>
              </a:rPr>
              <a:t>Sarcini de rea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Rezultate aștepta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evii trebuie să ș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citească cursiv, fluent și expresiv a textul - su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răspundă corect la întrebări pe marginea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identifice corect tema și motivele din opera litera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interpreteze corect sensul unor cuvi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realizeze un eseu și un portofol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prezinte oral produsele activităț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utilizeze resursele tehnice : calculator,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colaboreze ca parte a unei echipe pentru realizarea sarcin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7:03:23Z</dcterms:created>
  <dc:creator>Profesor</dc:creator>
  <dc:description/>
  <dc:language>en-US</dc:language>
  <cp:lastModifiedBy>user</cp:lastModifiedBy>
  <dcterms:modified xsi:type="dcterms:W3CDTF">2010-08-23T08:27:3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