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2C8-D7D4-435F-8B51-3DB08931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429-C6F0-4778-A24D-869F2AC0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F1B-71C8-4BF9-B1FC-38F11245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BEB-C1A9-4097-9E7C-47E02AD8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E2C0-E849-488C-84A8-27ED112C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D9C-64A6-4B88-8CEC-2585174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BFA6-E580-4BA9-A7F8-FDD0C14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7F16-1888-450C-B548-B93A360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3E7F-D396-4A27-BF66-092C3C0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869-FE9E-464E-BB85-C31A7B70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94F-F5E8-4BB3-B883-90721BD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D2F-46BF-4BC4-9FF7-7FEBA927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8675-8910-4D22-A6C0-E9582C5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1C4-5C67-4D80-B4C2-D992EFA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E2D4-9BFA-430B-8C37-07A80FD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3BF9-CFEA-415C-9147-94108329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DA62-95A8-4F72-9499-758861F9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65E-4983-4847-9D10-EF07D0C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33B-47BA-44EE-B3DD-D1872522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11A-047B-4533-8FF7-11265992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9EA-F089-41A5-AC69-64A79ADD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1D6-C893-4843-A1C7-8952565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C32-9DC6-4CF1-A8AF-918C43D1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072-DF0F-445C-BA03-51F2CCE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18E8-8332-4BDC-8821-02B73AC0D5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3B6-A0B9-4566-8D9A-99B0B139F0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Cum ar </a:t>
            </a:r>
            <a:r>
              <a:rPr b="1" i="1" lang="en-US" sz="4800" spc="-1" strike="noStrike">
                <a:solidFill>
                  <a:srgbClr val="330066"/>
                </a:solidFill>
                <a:latin typeface="Times New Roman"/>
              </a:rPr>
              <a:t>fi via</a:t>
            </a: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ţa pe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Pământ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fără fenomene periodice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330066"/>
                </a:solidFill>
                <a:latin typeface="Arial"/>
              </a:rPr>
              <a:t>Ce fel de miscare rezulta in urma compunerii a doua oscilatii?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În ce măsură legile cunoscute din mecanică se pot aplica fenomenelor periodice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Ce aplicaţii imediate vedeţi pentru studiul fenomenelor mecanice periodice în natur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Daţi  exemple de  fenomene mecanice periodice întâlnite în natură şi în tehnică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. Care sunt mărimile fizice ce caracterizează mişcarea oscilatori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3. Cum putem reprezenta legile mişcării oscilatorii armonic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28920" y="32464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putem reprezenta legile mişcării oscilatorii armo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480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4. Ce se întâmplă cu energia oscilatorulu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în mişcarea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464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5. Sub acţiunea cărui tip de forţă se desfăşoară  mişcarea oscilatorie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6. Prin ce diferă oscilaţiile amortizate de cele ideal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urelia</cp:lastModifiedBy>
  <dcterms:modified xsi:type="dcterms:W3CDTF">2010-08-24T16:48:19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