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E85-EACD-4C0F-B038-C4512F6C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D7B-E55A-421A-8867-2C344050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B3C-8812-4E4B-A49E-4F8FF821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D48-E7AE-425D-9BF9-C6CD7817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C8B8-E651-4EB3-A613-AF6068EE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7053-8F7B-4432-900B-4328C6EF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4BAD-50B8-46E4-919E-D6CBBB2D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E51A-A420-4C61-A719-83200089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2936-A222-45F3-9C0C-1CD6747C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52D3-95E0-43F2-8F66-7B443868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4ABC-FDB2-4E48-9332-326F023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AF9-AAF3-435C-8761-75D9ED5A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11AC-FD4F-47CF-951B-2A86BD82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AFF9-60C3-4F1A-865A-72D473D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2A19-E0D6-41F7-8944-CAF2D199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B4C9-9D5F-4BAC-9010-662BA25B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6400-FD3D-4E7F-BB42-6C01EC1C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44D-6F46-456E-946A-74FBFACC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4E5-4920-4BC7-9D5D-260A42B1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0DB-CE3D-49B0-B04C-6BEF9FE0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8DF-A30B-4E9F-9696-1ECBADA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4B1-9E8F-46D4-B3AB-39CCC072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547-2969-48CE-B08C-C24E9D9F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8D7-1560-4988-84DD-AEACC6E5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4112-9B87-430A-9341-94B423D662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8BF0-4ACD-4585-9A26-060B66275E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Cum ar </a:t>
            </a:r>
            <a:r>
              <a:rPr b="1" i="1" lang="en-US" sz="4800" spc="-1" strike="noStrike">
                <a:solidFill>
                  <a:srgbClr val="330066"/>
                </a:solidFill>
                <a:latin typeface="Times New Roman"/>
              </a:rPr>
              <a:t>fi via</a:t>
            </a: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ţa pe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Pământ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fără fenomene periodice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18385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330066"/>
                </a:solidFill>
                <a:latin typeface="Arial"/>
              </a:rPr>
              <a:t>Ce fel de miscare rezulta in urma compunerii a doua oscilatii?</a:t>
            </a:r>
            <a:r>
              <a:rPr b="1" lang="ro-RO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În ce măsură legile cunoscute din mecanică se pot aplica fenomenelor periodice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Ce aplicaţii imediate vedeţi pentru studiul fenomenelor mecanice periodice în natur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Daţi  exemple de  fenomene mecanice periodice întâlnite în natură şi în tehnică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2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. Care sunt mărimile fizice ce caracterizează mişcarea oscilatori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226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3. Cum putem reprezenta legile mişcării oscilatorii armonic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528920" y="3246480"/>
            <a:ext cx="60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putem reprezenta legile mişcării oscilatorii armon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480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4. Ce se întâmplă cu energia oscilatorulu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în mişcarea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464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5. Sub acţiunea cărui tip de forţă se desfăşoară  mişcarea oscilatorie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6. Prin ce diferă oscilaţiile amortizate de cele ideal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Aurelia</cp:lastModifiedBy>
  <dcterms:modified xsi:type="dcterms:W3CDTF">2010-08-24T16:48:19Z</dcterms:modified>
  <cp:revision>19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