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1C2A-233E-4AB3-B214-A72E3CB0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8B5-CFD3-4C5D-886D-9F7D4BC2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290C-E70B-4455-A3B7-F422A46B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A51E-F9E0-473D-B4B0-7E952981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DC7E-2671-40C0-B91F-B8313EF1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7146-1407-4792-A440-129272EC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8FEA-268F-4531-AE3D-D086FD0C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72FA-1B0A-4D88-928E-E1709104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C6B9-89A1-4D32-BBA4-54708581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DDA1-8A02-47EC-8A47-F82D267E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63F6-5340-4871-8921-9FA84520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928-1D1F-4C75-9903-6BEA4419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FDF6-B1DF-48FB-819C-C2474F54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B971-9C37-4E13-9D0C-AD73ADC7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165B-B69A-4F9D-B162-9A26695D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0B09-B64C-462F-97E0-D1D5FCF9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A294-C0A3-44A4-824A-585E0C9A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1D6-2DEA-48A8-A4B0-654CB008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F60-E81F-4801-B6E2-650CB0AB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544-71F3-4C8E-A089-75801172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2F4-B4A0-4246-839E-975C291D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45B-5BC8-4D87-AF01-8636BBEB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6DFA-1FCE-4C86-AD5E-2E07376A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B59D-B836-4345-A7BE-71C6851C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42DA-2FF7-47EC-AFCE-E58E566F06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3591-F47E-4422-8986-39CB40230A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Cum ar </a:t>
            </a:r>
            <a:r>
              <a:rPr b="1" i="1" lang="en-US" sz="4800" spc="-1" strike="noStrike">
                <a:solidFill>
                  <a:srgbClr val="330066"/>
                </a:solidFill>
                <a:latin typeface="Times New Roman"/>
              </a:rPr>
              <a:t>fi via</a:t>
            </a: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ţa pe </a:t>
            </a:r>
            <a:br>
              <a:rPr sz="4800"/>
            </a:b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Pământ </a:t>
            </a:r>
            <a:br>
              <a:rPr sz="4800"/>
            </a:b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fără fenomene periodice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18385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330066"/>
                </a:solidFill>
                <a:latin typeface="Arial"/>
              </a:rPr>
              <a:t>Ce fel de miscare rezulta in urma compunerii a doua oscilatii?</a:t>
            </a:r>
            <a:r>
              <a:rPr b="1" lang="ro-RO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11280" y="1719360"/>
          <a:ext cx="8075520" cy="4300200"/>
        </p:xfrm>
        <a:graphic>
          <a:graphicData uri="http://schemas.openxmlformats.org/drawingml/2006/table">
            <a:tbl>
              <a:tblPr/>
              <a:tblGrid>
                <a:gridCol w="2691720"/>
                <a:gridCol w="2691720"/>
                <a:gridCol w="2692080"/>
              </a:tblGrid>
              <a:tr h="178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În ce măsură legile cunoscute din mecanică se pot aplica fenomenelor periodice?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Ce aplicaţii imediate vedeţi pentru studiul fenomenelor mecanice periodice în natură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28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1. 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Daţi  exemple de  fenomene mecanice periodice întâlnite în natură şi în tehnică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28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2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. Care sunt mărimile fizice ce caracterizează mişcarea oscilatorie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1600200"/>
          <a:ext cx="8077320" cy="45306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226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3. Cum putem reprezenta legile mişcării oscilatorii armonice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528920" y="3246480"/>
            <a:ext cx="60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m putem reprezenta legile mişcării oscilatorii armon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4804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4. Ce se întâmplă cu energia oscilatorulu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în mişcarea armonică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464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5. Sub acţiunea cărui tip de forţă se desfăşoară  mişcarea oscilatorie armonică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543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6. Prin ce diferă oscilaţiile amortizate de cele ideale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11280" y="1719360"/>
          <a:ext cx="8075520" cy="4300200"/>
        </p:xfrm>
        <a:graphic>
          <a:graphicData uri="http://schemas.openxmlformats.org/drawingml/2006/table">
            <a:tbl>
              <a:tblPr/>
              <a:tblGrid>
                <a:gridCol w="2691720"/>
                <a:gridCol w="2691720"/>
                <a:gridCol w="2692080"/>
              </a:tblGrid>
              <a:tr h="178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Aurelia</cp:lastModifiedBy>
  <dcterms:modified xsi:type="dcterms:W3CDTF">2010-08-24T16:48:19Z</dcterms:modified>
  <cp:revision>19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