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752-04BB-4B9B-BC37-80FDCB8E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A97-7044-4D6B-BB2C-6054AC28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2F5-81BB-4EE6-B7CA-3C2ED60E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24D-8B44-46B8-9EAE-1EE7A9B2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B5F3-2665-4BC9-972F-65E43CD1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60DA-A2CB-446E-9B04-456E417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2697-FF9B-48BD-A5F2-0649AC4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F881-CDA8-4B70-8553-66269B9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FFA8-CC2C-4114-9DB2-C55E3934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6054-8FA6-4302-8A5E-F5F6826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4F1-01E1-4B80-A642-F5134CF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A2B-F861-4874-997C-6FBDAF6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1697-AAC0-4851-A240-1780F16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BD2F-9FE0-429C-9E06-1695F695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76B9-03C0-4635-A4B3-3DE2B8B9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A24-9F7B-4EA8-953F-7387C1A0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E39-0AD6-40F0-8710-F071A782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8A5-4F17-48F3-AF1A-F8FD087F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0B2-3C27-48CD-8AE5-2459E3B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BD6-7E93-4215-9F36-7E18BFBB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467-92EA-4319-878B-2F657825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4EC-7358-4D61-A680-CD9F4E3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A2D-3FCA-4EBC-95CB-9A16012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8FA-83DD-43C2-96B7-AA7198D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E636-6BE8-4105-A480-E733D6F8EF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821-C183-4958-8F36-343B5136A3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Cum ar </a:t>
            </a:r>
            <a:r>
              <a:rPr b="1" i="1" lang="en-US" sz="4800" spc="-1" strike="noStrike">
                <a:solidFill>
                  <a:srgbClr val="330066"/>
                </a:solidFill>
                <a:latin typeface="Times New Roman"/>
              </a:rPr>
              <a:t>fi via</a:t>
            </a: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ţa pe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Pământ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fără fenomene periodice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330066"/>
                </a:solidFill>
                <a:latin typeface="Arial"/>
              </a:rPr>
              <a:t>Ce fel de miscare rezulta in urma compunerii a doua oscilatii?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În ce măsură legile cunoscute din mecanică se pot aplica fenomenelor periodice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Ce aplicaţii imediate vedeţi pentru studiul fenomenelor mecanice periodice în natur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Daţi  exemple de  fenomene mecanice periodice întâlnite în natură şi în tehnică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. Care sunt mărimile fizice ce caracterizează mişcarea oscilatori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3. Cum putem reprezenta legile mişcării oscilatorii armonic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28920" y="32464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putem reprezenta legile mişcării oscilatorii armo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480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4. Ce se întâmplă cu energia oscilatorulu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în mişcarea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464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5. Sub acţiunea cărui tip de forţă se desfăşoară  mişcarea oscilatorie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6. Prin ce diferă oscilaţiile amortizate de cele ideal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urelia</cp:lastModifiedBy>
  <dcterms:modified xsi:type="dcterms:W3CDTF">2010-08-24T16:48:19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