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44A-7FF9-45EC-92A5-75124E64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A58-EE97-44A4-81AB-D40E457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645-367B-480A-8404-348BE053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CEF-C791-418A-A27C-1EC21269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AB56-17BB-479D-B9C2-46F98493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2D9-18D9-4322-BAC4-29697CC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CA4-902C-4DCC-A998-F237625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49E0-ECF1-48C5-B962-DD0D72C4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E927-5403-4A33-BBAC-12DA26BD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022-73A0-45F6-A5E1-FD4D80B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7DBA-4480-44CF-B9AC-748AAC2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E6B-01CD-4218-99E2-0B39932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E06E-33FA-4FCC-9450-F5BFCE4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04E-8B0B-4823-970D-FA4FE0F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B3B-1DE2-4FD2-A99B-E41B1DA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5D1-3498-4088-9C4F-F07D79EE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99F-3899-4A2E-886E-00ED0957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80A-E987-4F1D-8446-6A7B880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637-B534-439E-B7B0-8271BEEF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6FE-3451-4F72-98BA-A3F6940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197-5051-4C00-BE5C-67E97A0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EE3-B9B2-4216-9DC1-33B6A3B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049-5505-49A0-9949-D297011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A06-37B0-4442-9FE0-22A6A21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4AD-A8BC-47FE-A11E-586B7DA6AC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553-C314-4E46-A291-CD57BB6C5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Cum ar </a:t>
            </a:r>
            <a:r>
              <a:rPr b="1" i="1" lang="en-US" sz="4800" spc="-1" strike="noStrike">
                <a:solidFill>
                  <a:srgbClr val="330066"/>
                </a:solidFill>
                <a:latin typeface="Times New Roman"/>
              </a:rPr>
              <a:t>fi via</a:t>
            </a: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ţa pe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Pământ </a:t>
            </a:r>
            <a:br>
              <a:rPr sz="4800"/>
            </a:br>
            <a:r>
              <a:rPr b="1" i="1" lang="ro-RO" sz="4800" spc="-1" strike="noStrike">
                <a:solidFill>
                  <a:srgbClr val="330066"/>
                </a:solidFill>
                <a:latin typeface="Times New Roman"/>
              </a:rPr>
              <a:t>fără fenomene periodice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330066"/>
                </a:solidFill>
                <a:latin typeface="Arial"/>
              </a:rPr>
              <a:t>Ce fel de miscare rezulta in urma compunerii a doua oscilatii?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În ce măsură legile cunoscute din mecanică se pot aplica fenomenelor periodice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Ce aplicaţii imediate vedeţi pentru studiul fenomenelor mecanice periodice în natur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1.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Daţi  exemple de  fenomene mecanice periodice întâlnite în natură şi în tehnică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. Care sunt mărimile fizice ce caracterizează mişcarea oscilatori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22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3. Cum putem reprezenta legile mişcării oscilatorii armonic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528920" y="32464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m putem reprezenta legile mişcării oscilatorii armo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480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4. Ce se întâmplă cu energia oscilatorulu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în mişcarea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464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5. Sub acţiunea cărui tip de forţă se desfăşoară  mişcarea oscilatorie armonică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6. Prin ce diferă oscilaţiile amortizate de cele ideale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1719360"/>
          <a:ext cx="8075520" cy="4300200"/>
        </p:xfrm>
        <a:graphic>
          <a:graphicData uri="http://schemas.openxmlformats.org/drawingml/2006/table">
            <a:tbl>
              <a:tblPr/>
              <a:tblGrid>
                <a:gridCol w="2691720"/>
                <a:gridCol w="2691720"/>
                <a:gridCol w="2692080"/>
              </a:tblGrid>
              <a:tr h="17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aş vrea să ştiu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învăţat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urelia</cp:lastModifiedBy>
  <dcterms:modified xsi:type="dcterms:W3CDTF">2010-08-24T16:48:19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