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282-C6F7-4C24-A918-DAF6BE56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F7E-BD86-4AC4-ACE8-FE81B381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459-8FEE-41AA-A998-7BB7F8CE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5BD-D517-4146-9187-28DA2A83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D3C1-6383-42B7-B543-FC93FC5E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14BC-57EB-4ACB-B10A-72AE77AB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E9A0-57F6-4CC9-A18B-F7F851E1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88C2-2857-43E2-AC53-CBBDE174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8C99-5F11-4919-96BF-A3419CFF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BA46-D8F8-4086-88A0-5CA18BFE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BEE9-3ADB-47CD-8F9E-997846E1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FE7-7DE3-42B8-8BAB-11DA6A1E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17C1-4506-4CBA-9A79-31EF8AB8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3512-F37A-4604-B6A7-388AB342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92BD-F848-4B8E-8B2B-101018DD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BB0F-8D00-4553-988C-2C53C054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945F-8411-4F05-AFCE-6D799BCE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9E2-732A-4416-BEE0-D65A189C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FA5-BAE3-49C7-9B09-13EA2A79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50D2-D22A-493E-A77D-D0D4C1B6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1A6-1E00-4931-86CB-0784A9F2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7D60-EC57-4ED0-B38B-9164EAC8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D936-7BC7-4D5F-82A4-1AD9BAB1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E0C-8DB1-40C7-ADC1-549664EB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5EB0-05C2-4E8B-BCC7-89A844A7C0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2B86-4783-41DB-BE27-E8E583281B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Arial Unicode MS"/>
              </a:rPr>
              <a:t>UTILIZAREA REȚELELOR DE TELECOMUNICAȚ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76560" y="2819160"/>
            <a:ext cx="381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ȚEAUA DE TELECOMUNICAȚII ESTE CEL MAI MARE ȘI MAI COMPLEX SISTEM CREAT DE OM, CARE ARE O IMPORTANȚĂ VITALĂ PENTRU OAME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14624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125100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24080" y="495288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4600"/>
                </a:solidFill>
                <a:latin typeface="Arial"/>
              </a:rPr>
              <a:t>Clasa XII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4600"/>
                </a:solidFill>
                <a:latin typeface="Arial"/>
              </a:rPr>
              <a:t>GRUP ȘCOLAR NAVAL GIURG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1. DEFINI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 telecomunicații înțelegem totalitatea proceselor care au ca scop transmiterea la distanță a voc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țeaua de telecomunicații este formată din noduri și din link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2. </a:t>
            </a: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ARHITECTURA REȚELE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3. PIAȚA SERVICIILOR DE TELECOMUNICA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În viziunea traditional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– rețelele             implementeaza servicii pentru utilizatori. Clienții folosesc serviciile oferite de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În viziunea modern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– operatorul va evalua solicitările clienților și își va adapta rețeaua pentru a răspunde rapid cerințelor clienților prin oferirea serviciilor solicitate de foarte bună cali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4. SERVICII DE TELECOMUNICA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LE POT FI DIFERITE, ÎN FUNCȚIE DE DESTINA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persoane priva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instituț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comunităț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Teleserviciile pot fi servicii de baza, servicii suplimentare, servicii cu valoare adăugat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Unicode MS"/>
              </a:rPr>
              <a:t>Telecomunicațiile solicitate de persoane priv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icații între perso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zacții ban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Unicode MS"/>
              </a:rPr>
              <a:t>Telecomunicațiile solicitate de instituți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re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merț electr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pentru clienț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lecomunicații pentru comunităț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ele-educaț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330033"/>
                </a:solidFill>
                <a:latin typeface="Times New Roman"/>
              </a:rPr>
              <a:t>Bibliografie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e de telecomunicatii – Tatiana Radules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06:26:03Z</dcterms:created>
  <dc:creator>Profesor</dc:creator>
  <dc:description/>
  <dc:language>en-US</dc:language>
  <cp:lastModifiedBy>PC</cp:lastModifiedBy>
  <dcterms:modified xsi:type="dcterms:W3CDTF">2010-08-19T08:28:5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