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E49-7CBF-4B98-9BAB-4D9AC3DD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CCF-4806-4F05-82AA-E9E952C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378-3549-46D7-B109-20F16179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A32-D5B6-4CB2-9B0D-BF61A2FC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222-0390-4534-9942-FD9A89DC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81FB-71CE-4B6E-9E7C-93B2CDD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5A1-F930-4C6A-9BD2-163D12C3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BBB1-F9FA-4A22-9130-4524AF2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BF3-7753-4AD2-8B30-0CE9321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EC1C-6C35-4F80-8748-5E03374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228-FFC6-4EDA-9F78-CBDDA07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062-D84D-421B-9B42-4515FEF9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10FD-9BBA-48B6-9ABF-BF415A6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178E-DE3A-4CB5-A790-E84E0C2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95FD-E542-48C9-B6E8-C7E1E3D2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DAF8-AF4F-4F3F-B58F-ED68A2C1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2D0-DD8F-4AA4-883A-7A5C4F7D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B7D-C7E5-485C-BA22-33772DA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FD4-C1EA-42E1-A846-0EB67433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F30-1D31-4BAC-864B-E4EA6EBB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B51-9439-4C86-A065-C4A76E6D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132-E242-4B2A-867C-B4E8BC3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027-02B9-424A-9AEC-E025FD8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ECF-E8A6-4CF3-BB31-FBD4057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726D-86DB-46A3-9411-9D27D4B4C7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8F32-DB57-4373-A9AD-C29E5F9010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 Unicode MS"/>
              </a:rPr>
              <a:t>UTILIZAREA REȚELELOR DE TELECOMUNICAȚ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560" y="2819160"/>
            <a:ext cx="381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ȚEAUA DE TELECOMUNICAȚII ESTE CEL MAI MARE ȘI MAI COMPLEX SISTEM CREAT DE OM, CARE ARE O IMPORTANȚĂ VITALĂ PENTRU OAME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1462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2510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495288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Clasa XI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GRUP ȘCOLAR NAVAL GIUR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1. DEFINI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 telecomunicații înțelegem totalitatea proceselor care au ca scop transmiterea la distanță a voc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țeaua de telecomunicații este formată din noduri și din link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ARHITECTURA REȚEL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3. PIAȚA SERVICIILOR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tradit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rețelele             implementeaza servicii pentru utilizatori. Clienții folosesc serviciile oferite d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modern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operatorul va evalua solicitările clienților și își va adapta rețeaua pentru a răspunde rapid cerințelor clienților prin oferirea serviciilor solicitate de foarte bună cal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4. SERVICII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LE POT FI DIFERITE, ÎN FUNCȚIE DE DESTINA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persoane priv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instituț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comunităț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Teleserviciile pot fi servicii de baza, servicii suplimentare, servicii cu valoare adăuga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persoane priv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ții între pers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zacții b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instituți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re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erț elec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pentru clien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lecomunicații pentru comunităț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le-educaț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e de telecomunicatii – Tatiana Radul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6:26:03Z</dcterms:created>
  <dc:creator>Profesor</dc:creator>
  <dc:description/>
  <dc:language>en-US</dc:language>
  <cp:lastModifiedBy>PC</cp:lastModifiedBy>
  <dcterms:modified xsi:type="dcterms:W3CDTF">2010-08-19T08:28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