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2899-7637-4BF4-B6C8-AA850DC6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2BB0-089E-4708-AA06-D4EF95E6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9A7A-A2A2-48DC-916C-C107D49E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05C-E3A2-4732-AAAE-E40A4D7E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DE6B-1AFB-44BC-AC6D-D6B5B711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7AEF-A6A5-419D-B594-1C01175F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5780-9166-4474-AA02-DAFB5D3C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EAA2-F28B-4696-AA7A-8488E9F6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FCDC-B3B9-4B50-A30A-B5C400C6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9C88-06F3-4AF8-AB79-68D7E835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FC99-EBB5-4B0C-8171-E92EFD09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2DE-6DB4-462A-A9FA-1633B1F0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159B-3D5D-4BFF-B371-5A880EFC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09C2-EEB9-45D9-B9AA-1E5CE7D2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B617-CF75-403A-BB2B-F992CD64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7AC8-8341-47C8-8FCF-28610E07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81BE-CE40-411A-B272-70269487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E134-DFD9-43A3-B608-774CBF48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59AD-56B9-46F8-82E2-714B9660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B04F-1239-43DD-880C-B42A5D8D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C1E-66C2-495F-8B8F-B930DB13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0F3-7079-45DF-ACB4-6C82D914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C32-EC39-4DB8-BFD7-3E242F54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7BD-53F6-49C7-95BD-5530B5C0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58EF-2C95-44C7-A08C-0377B2C8AB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1446-E554-4866-BD78-2A3EFDD8CA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Arial Unicode MS"/>
              </a:rPr>
              <a:t>UTILIZAREA REȚELELOR DE TELECOMUNICAȚ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76560" y="2819160"/>
            <a:ext cx="3817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ȚEAUA DE TELECOMUNICAȚII ESTE CEL MAI MARE ȘI MAI COMPLEX SISTEM CREAT DE OM, CARE ARE O IMPORTANȚĂ VITALĂ PENTRU OAME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146240" cy="129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1251000" cy="1752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124080" y="495288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4600"/>
                </a:solidFill>
                <a:latin typeface="Arial"/>
              </a:rPr>
              <a:t>Clasa XII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4600"/>
                </a:solidFill>
                <a:latin typeface="Arial"/>
              </a:rPr>
              <a:t>GRUP ȘCOLAR NAVAL GIURG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1. DEFINIȚ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 telecomunicații înțelegem totalitatea proceselor care au ca scop transmiterea la distanță a voc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țeaua de telecomunicații este formată din noduri și din link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2. </a:t>
            </a: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ARHITECTURA REȚELE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3. PIAȚA SERVICIILOR DE TELECOMUNICAȚ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În viziunea traditional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– rețelele             implementeaza servicii pentru utilizatori. Clienții folosesc serviciile oferite de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În viziunea modern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– operatorul va evalua solicitările clienților și își va adapta rețeaua pentru a răspunde rapid cerințelor clienților prin oferirea serviciilor solicitate de foarte bună cali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4. SERVICII DE TELECOMUNICAȚ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LE POT FI DIFERITE, ÎN FUNCȚIE DE DESTINA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solicitate de persoane priva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solicitate de instituți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solicitate de comunităț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Teleserviciile pot fi servicii de baza, servicii suplimentare, servicii cu valoare adăugat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Unicode MS"/>
              </a:rPr>
              <a:t>Telecomunicațiile solicitate de persoane priva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unicații între perso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zacții ban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Unicode MS"/>
              </a:rPr>
              <a:t>Telecomunicațiile solicitate de instituți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ree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merț electr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pentru clienț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lecomunicații pentru comunităț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ele-educaț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330033"/>
                </a:solidFill>
                <a:latin typeface="Times New Roman"/>
              </a:rPr>
              <a:t>Bibliografie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ele de telecomunicatii – Tatiana Radules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06:26:03Z</dcterms:created>
  <dc:creator>Profesor</dc:creator>
  <dc:description/>
  <dc:language>en-US</dc:language>
  <cp:lastModifiedBy>PC</cp:lastModifiedBy>
  <dcterms:modified xsi:type="dcterms:W3CDTF">2010-08-19T08:28:5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