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BAA3-0C49-4CFE-A89D-44ADC033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D86F-1A31-40AF-9A87-FD9B0A0D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D003-0B83-4DCF-9556-CA1A16DF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471C-69CB-4D86-AD0B-84138CAA1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E4FB-CD6B-4780-8C72-392B6DD6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55A3-ED2F-49D2-BB8C-795CC1E7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3B90-FC4F-4907-B961-A2B16C5E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B3C3-5C0D-4BD0-AC9A-F380DB76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C669-DD53-421E-814F-C33816E7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A425-51AF-4CD7-9FB0-CDD72D24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4689-F7BC-4FEF-9514-389BF7DF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B002-D8C8-4EA8-BC29-40FC7092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3268-8DD9-4369-AA37-33FCF2F3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C3AA-1D57-4D78-BCFA-11FE229D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EE0B-B234-455C-AFAB-AEB63F36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2A4B-0247-47EF-8F20-4A53CCAA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5B9A-EC27-46A1-96A5-B3BE1FDF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1F7A-B8C6-41F5-977B-8C46359B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53D0-49F8-40C3-9637-87822A5A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F5D2-98EB-46AF-9276-000C08FE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75D7-FBB4-4A4D-A438-5648D481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8DFE-32CB-4079-88B9-1C2B95DA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0754-7D74-4A92-A9FC-9C53B28F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663E-7ED7-46AB-8AB2-0BFC3F13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EB69-ACA6-4AF3-A22B-AE209B896C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9671-5B3A-43C9-B29A-FB69C86A15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Arial Unicode MS"/>
              </a:rPr>
              <a:t>UTILIZAREA REȚELELOR DE TELECOMUNICAȚ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76560" y="2819160"/>
            <a:ext cx="3817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ȚEAUA DE TELECOMUNICAȚII ESTE CEL MAI MARE ȘI MAI COMPLEX SISTEM CREAT DE OM, CARE ARE O IMPORTANȚĂ VITALĂ PENTRU OAME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146240" cy="1295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1251000" cy="1752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124080" y="495288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4600"/>
                </a:solidFill>
                <a:latin typeface="Arial"/>
              </a:rPr>
              <a:t>Clasa XII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4600"/>
                </a:solidFill>
                <a:latin typeface="Arial"/>
              </a:rPr>
              <a:t>GRUP ȘCOLAR NAVAL GIURG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Unicode MS"/>
              </a:rPr>
              <a:t>1. DEFINIȚI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7620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 telecomunicații înțelegem totalitatea proceselor care au ca scop transmiterea la distanță a voc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țeaua de telecomunicații este formată din noduri și din link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2. </a:t>
            </a:r>
            <a:r>
              <a:rPr b="0" lang="en-US" sz="4200" spc="-1" strike="noStrike">
                <a:solidFill>
                  <a:srgbClr val="330033"/>
                </a:solidFill>
                <a:latin typeface="Arial Unicode MS"/>
              </a:rPr>
              <a:t>ARHITECTURA REȚELE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Unicode MS"/>
              </a:rPr>
              <a:t>3. PIAȚA SERVICIILOR DE TELECOMUNICAȚI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În viziunea traditional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– rețelele             implementeaza servicii pentru utilizatori. Clienții folosesc serviciile oferite de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În viziunea modern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– operatorul va evalua solicitările clienților și își va adapta rețeaua pentru a răspunde rapid cerințelor clienților prin oferirea serviciilor solicitate de foarte bună cali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Unicode MS"/>
              </a:rPr>
              <a:t>4. SERVICII DE TELECOMUNICAȚI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RVICIILE POT FI DIFERITE, ÎN FUNCȚIE DE DESTINA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rvicii solicitate de persoane priva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rvicii solicitate de instituți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rvicii solicitate de comunităț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Teleserviciile pot fi servicii de baza, servicii suplimentare, servicii cu valoare adăugat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 Unicode MS"/>
              </a:rPr>
              <a:t>Telecomunicațiile solicitate de persoane privat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unicații între perso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zacții ban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 Unicode MS"/>
              </a:rPr>
              <a:t>Telecomunicațiile solicitate de instituți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ree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omerț electr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rvicii pentru clienț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elecomunicații pentru comunităț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Tele-educaț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330033"/>
                </a:solidFill>
                <a:latin typeface="Times New Roman"/>
              </a:rPr>
              <a:t>Bibliografie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ele de telecomunicatii – Tatiana Radules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06:26:03Z</dcterms:created>
  <dc:creator>Profesor</dc:creator>
  <dc:description/>
  <dc:language>en-US</dc:language>
  <cp:lastModifiedBy>PC</cp:lastModifiedBy>
  <dcterms:modified xsi:type="dcterms:W3CDTF">2010-08-19T08:28:5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