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ADD-C4E9-4A84-8802-8DA785FE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76E-8AB6-485A-8F1D-6A6B148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86D-CDC8-49C9-A38F-50410381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6B2-5F67-44F9-BA98-6C214231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C8D-5D57-4B67-BCE9-EB474EB6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1707-CFFB-4E85-A337-EBA1A6B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980F-DFC5-4B19-9730-3B9154D8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5181-BDFC-4B01-ACA0-C53D613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3EAB-DB6F-479C-A4E0-BAFA2C3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837-79E7-4FDD-BF4B-FA6C2F5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27C-2FE3-4118-B1A1-D430686A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B0D-331E-4DAC-9DE6-BD040F29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CE7F-51B2-4FA5-B5D1-3C2589A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DB1E-83BB-4562-B2EB-3D448DD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9DB5-0261-4E43-832F-63B27BC6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98B2-19E0-48CA-97D5-EE91F326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8005-29D2-4BCC-BDC5-8A3DC925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8B9-DE2C-4984-A501-996B73A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09F-88E2-4AF1-9CF9-7E54D6AE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38F-A035-4B5B-A16A-B9F81A14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A93-4750-4F54-B6E5-2E3002FF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E7F-C574-46B5-B8EC-61965F05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DAB-9400-44F1-8BAA-F69916D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C04-A816-4FF4-AD7A-DF87501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038E-7A0B-4DCC-AE95-1AC7BD10A5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B50D-21D9-4DD8-BDC9-9FB129D9B0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 Unicode MS"/>
              </a:rPr>
              <a:t>UTILIZAREA REȚELELOR DE TELECOMUNICAȚ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560" y="2819160"/>
            <a:ext cx="381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ȚEAUA DE TELECOMUNICAȚII ESTE CEL MAI MARE ȘI MAI COMPLEX SISTEM CREAT DE OM, CARE ARE O IMPORTANȚĂ VITALĂ PENTRU OAME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1462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2510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495288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Clasa XI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4600"/>
                </a:solidFill>
                <a:latin typeface="Arial"/>
              </a:rPr>
              <a:t>GRUP ȘCOLAR NAVAL GIUR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1. DEFINI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telecomunicații înțelegem totalitatea proceselor care au ca scop transmiterea la distanță a voc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țeaua de telecomunicații este formată din noduri și din link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ARHITECTURA REȚEL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3. PIAȚA SERVICIILOR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tradit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rețelele             implementeaza servicii pentru utilizatori. Clienții folosesc serviciile oferite d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 viziunea modern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operatorul va evalua solicitările clienților și își va adapta rețeaua pentru a răspunde rapid cerințelor clienților prin oferirea serviciilor solicitate de foarte bună cal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 Unicode MS"/>
              </a:rPr>
              <a:t>4. SERVICII DE TELECOMUNICAȚ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LE POT FI DIFERITE, ÎN FUNCȚIE DE DESTINA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persoane priv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instituț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solicitate de comunităț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Teleserviciile pot fi servicii de baza, servicii suplimentare, servicii cu valoare adăugat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persoane priv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ții între pers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acții b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Unicode MS"/>
              </a:rPr>
              <a:t>Telecomunicațiile solicitate de instituți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e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merț elec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rvicii pentru clien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lecomunicații pentru comunităț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le-educaț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e de telecomunicatii – Tatiana Radul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6:26:03Z</dcterms:created>
  <dc:creator>Profesor</dc:creator>
  <dc:description/>
  <dc:language>en-US</dc:language>
  <cp:lastModifiedBy>PC</cp:lastModifiedBy>
  <dcterms:modified xsi:type="dcterms:W3CDTF">2010-08-19T08:28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