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15C-5E82-4509-A938-918751B1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9FD-3694-49CB-B569-A8BC4B4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2F273-BB31-44D6-A30C-F7650C19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975A-5ED3-49C1-A2D0-36EACC2C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FCDC1-AB9D-4AB1-9935-FE44D216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9D496-A42C-41F7-BB1B-6A5F26D8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74DE-578A-490D-B37A-DD677C7D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B9D44-9292-4D01-BCFC-5FE8A12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ED529-F40F-47B9-AB2C-5A762149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6A3F4-A13C-4810-9517-3BC747BE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DE14B-FB1C-4645-B5D7-8F04CD43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B30BF-5852-4A09-A97B-3BEE803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6B6-EFD7-417E-A869-CC847379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6F429-0593-49EB-B028-C599F83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7F5E3-E3C2-4DAC-BE36-2D5B8EB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AE5F6-A6C7-4752-95FA-C28717D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84C60-AAA4-476B-B30A-5C6321B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C73B8-9D5D-458A-A4F0-2DFC680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4D7F3-1774-4F30-AA1E-A7FBE6E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DC6F1-4CE6-4EA8-9AB9-FF62AE5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923F4-18A6-4610-9657-4139D2C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BF0BD-8091-4F74-8735-EAB376BF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95741-08C3-4B21-9146-071D7E31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F1C-9A7A-4854-B038-55185413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4C2E7-F7FB-462C-85CA-8728AD41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A83E6-6FA7-4609-964F-7F6FDD78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1422C-6DD8-4D9B-AC54-517294A4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071D9-BA49-4814-9803-510BB5C4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290C9-715D-4EB0-ACA5-5C82DAE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D93DC-75D4-417C-9AA1-92C5BD3C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4F482-A9EE-4C9F-BAB0-4DBC6933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ED724-9DF4-487F-8CD9-4788A9B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DBEDE-6C9B-404E-82C6-1068BB67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7246B-7A5F-4A29-8A6C-E66D86CF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0CA8B-98C7-489A-86A5-C30C2B17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E940F-9AF5-4547-9245-F9CC5BCA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658D9-AAE9-4D6A-A2FF-262BC5CC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742D3-46B7-491D-9B5A-20FC2E95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7B876-E591-4C12-BD6F-7FE91531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8CECD-E879-4A14-B982-0DA1980C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0B544-4E97-406F-B79D-0DC58BE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3153A-1D0E-411A-99AC-3DC56C4F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F2736-5322-4192-9633-03475CB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5BD6F-47F5-4A6C-91D3-4936FDF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F22-BE71-4142-937B-A8A9799A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C5FD4-C9A2-46B2-9660-91B8B45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8BADA-0896-4A05-A235-BADFFE7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11BA-42D1-4AF8-A0BB-3C3E5287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136EC-C0E9-45B9-A275-9F6E7F8F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0F010-53F9-4FCA-948F-933ABA5B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94F9-FF1B-45CE-8290-3564F4DE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659F-6678-4E43-9BE1-DD0ED8B9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91D3-1C2E-4C85-B31C-345142B5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0580-EC88-4FD0-8144-4DE61D7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CE0F-55D5-4DAC-A7A0-24B0ED49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D78-B014-4214-8087-1A40FAC2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4346-4719-4D14-8C6C-BD9529A2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E5CD-94D2-4F89-95CC-5D65E41F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27BF-3FCB-405E-BE67-1FCB9310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2F1E-2F14-426B-BAF5-66B57495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A6B8-D654-4A99-9485-DCA2374F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639C-3047-410A-B158-A1159742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D485-557B-44E3-8C93-DC081731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EFFB-12D7-4216-9E01-057D70E8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43E5-AF39-49F3-8C0C-3CFCEBCD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B176-923C-4CAF-B660-E5D329C0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2DA-06B8-443D-80C7-1DB322BD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2C77-0936-4F75-91BC-8CD0D543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3096-E73C-4C00-8B03-B9461B35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12523-D38C-4BEF-919A-31B4FF4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2A81-83A1-42AE-B973-E477C6BB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82FB-A42A-4FC3-BF08-9D8F9AC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8D7D-6103-4FE6-A431-39922FB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1A89-83FF-4EE7-9D43-360D376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BA79-B9AB-4273-970B-745A83B8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657C6-8AC3-47F0-A7D9-4451E8BF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4C55-E003-45C2-AD06-8F81F1B4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9A3-7174-41E3-B737-AFFA96E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41072-F82C-447B-A24B-BDF47F9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7DE40-5E99-4756-A150-657DAA01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DA93E-1AAF-4FD8-8F15-6B64882F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58BAC-F54C-4A4E-ADBE-68C5520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D64B-16BD-40BD-A13B-AD51577C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7255-A5D1-4E94-B526-D7D048A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E84AC-869F-490D-ABF8-1015A2B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6FCA-EAEA-4E18-9C81-089F24C4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4EA1-B803-40C7-8E9A-248ACDB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3047-A5EA-4BC5-BE8A-F095B9BA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658-32A4-4B24-8309-C21A2FC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363D-9CD4-447A-8F0B-3A4A62FF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BAB79-2FDD-4647-8799-24CA9254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86C2-699C-4C55-AE81-C4B8A847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9B630-9723-40B1-824C-55FC866E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F569-DCB1-40A7-A703-2357476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F27D-9F4B-4679-9994-D8B465A8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3624B-C31B-4874-8A6F-065EB6AF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EB252-8DA3-412F-BA63-3989123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54A40-788C-4CA9-B23D-A6791C7F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ADA5-0839-4C62-88F1-3CA98230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A50-41DB-4A38-813F-E8EF88B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2232-BC77-4ABD-880D-2303FACF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B6B0D-8A72-427F-AA70-34913EB3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602BE-600D-4742-AA43-5B832AC9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708-26B0-42C8-8A8E-F662F388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58DF0-1DF3-40C5-86C4-D8DBB0AC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DB36-43C7-4164-AD42-F8D87C3B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7FC09-556F-44F5-B171-75D80EF0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CFAD6-6E94-4E0B-A45F-0614FA6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88CE7-9DC2-4342-B931-B95C759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380-56D6-42D5-BB1D-2817B4F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E8860-B318-4314-B8D9-2DA87C14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65289-D255-410D-A1B1-2577392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7D575-2005-46DF-956F-7028721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B739C-FF2E-4724-84E2-490CF74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0445-CDAB-402B-A566-9D318A4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F93D-6DCF-48A7-81A4-F514545C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3EFBC-D6DB-4571-94C2-149608A5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10F80-F2FD-4F06-BED5-0D04FD91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DADDE-1F9F-4385-81F2-CAA23658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E3EF9-7CC4-42DF-8347-8D61BCC0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047C-01F1-4C7C-B886-C41B4639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1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F072-BF37-4FEB-AE0D-019925AFC0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5EC8-8FFE-4661-AD61-793F95387F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5B84-B4E7-4404-9A94-5A84BB874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C317-0130-454F-BD93-A4E61915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23C8-5613-41AC-B341-3EB8A83E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656-9283-4DAF-AA6F-3DE62329513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7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7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1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3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AF17-4823-4AC5-A189-C896FF68E1F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8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3BA-68ED-4521-A75C-5149624FE4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9035-E239-4DB4-8134-06B1737A1E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Caracterizarea </a:t>
            </a: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personajului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Harap-Alb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basmul cult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Povestea lui Harap-Alb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de Ion Creang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90476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03000" y="2854440"/>
            <a:ext cx="450036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rincipa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eponi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ozitiv (întruchipează bine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46600" y="2610000"/>
            <a:ext cx="4397400" cy="424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Modalităţi de caracteriz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Caracterizare directă: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nar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</a:t>
            </a: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Fiul craiului , boboc in felul sau la trebi de aiest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celelalte persona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Fii convins că nu eu, ci puterea milosteniei şi inima ta cea bună te ajută, Harap-Alb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autocaracteriz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2. Caracterizare indirectă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– realizată prin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fapte, limbaj, relaţiile cu celelalte personaje, n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Tahoma"/>
              </a:rPr>
              <a:t>Numele personajul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La început, personajul nu este individualizat, fiind reperat prin sintagme precum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fiul cel mic al Craiului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arap-Alb este numele pe care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i-l dă Spânul. Acest nume reprezintă un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paradox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, constituind o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structură oximoronică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(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Harap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 =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rob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negru</a:t>
            </a:r>
            <a:r>
              <a:rPr b="0" i="1" lang="ro-RO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care simbolizează evoluţia personajului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Arial Narrow"/>
              </a:rPr>
              <a:t>Statutul iniţial al personajulu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Neiniţiat, lipsit de experienţa vieţii, inocen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Pentru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a deveni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mp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at, el trebuie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trea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mai multe probe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ş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dovedeas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o serie de calit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,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ntre care  distingerea adev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ului dincolo de aparen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66"/>
                </a:solidFill>
                <a:latin typeface="Tahoma"/>
              </a:rPr>
              <a:t>Trăsăturile morale ale personajulu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şi are calităţi umane deosebite, acestea nu sunt actualizate de la început, ci şi le descoperă prin intermediul probelor la care este supus: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milostenia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ţă de bătrâna cerşetoare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bunatatea, curajul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întâlnirea cu roiul de albine şi cu nunta de furnici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nestitate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respectarea jurământului) si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ieteni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/spiritul de tovărăşie (faţă de Gerilă, Flamânzilă, Setilă, Ochilă şi Păsări-Lăţi-Lungil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z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Harap-Alb r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prezintă omul ideal, ale cărui calităţi sunt preţuite de popor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l rămâne la limita umanului, iar faptele care depăşesc limita realului sunt săvârşite de „adjuvanţii” săi, înzestraţi cu trăsături supranaturale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Harap-Alb întruchipează perfecţiunea, reprezentând un model de conduită morală, un exemplu bun de urm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2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5:56:51Z</dcterms:created>
  <dc:creator>birbi</dc:creator>
  <dc:description/>
  <dc:language>en-US</dc:language>
  <cp:lastModifiedBy>Profesor</cp:lastModifiedBy>
  <dcterms:modified xsi:type="dcterms:W3CDTF">2010-08-24T07:43:40Z</dcterms:modified>
  <cp:revision>13</cp:revision>
  <dc:subject/>
  <dc:title>Caracterizarea lui Harap-Alb</dc:title>
</cp:coreProperties>
</file>