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982-D4CC-45F3-87A7-82D383EE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FF6-A38B-4312-BDA4-1DE34EB4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9A9F5-C069-4085-A176-4E5F1D88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F5754-2FAB-4C2E-9B55-844CDF0E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CEB4E-68F3-4487-9649-A5F89B0C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D9A85-A36F-4D94-ACB2-1DDFE065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87A50-2742-4F53-8DC3-BC5D8C1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9CA8-B2B1-4128-A424-D346D27C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E35C-7E2B-42CC-9324-D87B1235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B75C0-8018-4806-AE40-5DF2434A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14099-426C-4FD7-810C-5B846C00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74B77-7029-4218-8FDB-030615EB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664-C46A-4D27-8432-C47485CD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CE1B4-77CF-417A-8365-CCB70D9B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52F8D-BC8F-47AD-B0F1-9335F4D9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9E6C6-3AEE-4897-9869-0491E85C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81A88-7C62-45E2-97EE-F84FA3DC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C3A74-6BA9-42EB-ABA5-7EEA1E17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4F21E-91AF-48C1-B74E-ABFDD0E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0005F-5E31-442E-AA2B-C7DEFB85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3A478-AB2D-4CC1-9B68-51664D7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5D211-1DE3-4E37-B56B-94ED585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02927-3BC0-4D32-AF5A-34221254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422-07A3-472A-951B-85F3A88A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628B9-4B13-4BF8-882D-A285E547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EE037-60A0-4AA0-A994-7799490D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25FE6-B176-467B-A432-E6EACD91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C9A85-607C-4837-8BFA-8775DA4F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AB74F-BF26-4AC7-B105-B304F11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D9FB0-6A42-47A8-8EDA-BB919233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75BD7-E051-4B89-B7F7-61DA871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BBA0D-21FE-4E57-9A7F-BDD6F77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680D-323A-4B73-ACF9-7B7E19C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2AB4F-A0D4-46A5-ABD5-07187C3C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78E60-0C91-405A-AFE5-FAEC9CE4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82A5D-A598-4158-ACF2-87FA6D23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35069-C240-4987-8CBA-E51FFFDE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6F4B-D3BB-45F3-A1E1-FF82F8E7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6E1F0-57DA-4180-9F84-A3A5745A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0FA91-9790-42C4-A00D-42BEC89D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D4E58-8C19-4204-86BE-1B3E3B75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92C71-ACBC-431C-8C2D-53B4DEBD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56B17-BF43-4F10-838F-3922DC08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E2C4A-7BC5-4CA6-939B-3C638977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30F-84F2-42F3-9B4C-77F1913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2D468-C9E9-423C-BBA5-3DE125F3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19346-FAAE-4FC4-B93D-EF861D6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831C-BA54-4463-96BB-F6A99D26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F5B94-8807-42D6-9610-EC8A62A2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0DDDB-573F-49BD-9CFD-05345863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9D84-027A-46EA-B58E-D8667FAD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F070-C037-4B0B-B675-7F65811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5345-ABBC-4119-9E2C-F5B0953F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C60C9-5C01-46E7-9C3A-768B071D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E5C4-E2C3-4880-8E0A-3B515206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521-5B9F-43E9-8B31-903BB1A9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BF31-98C7-4763-8CAF-9A34EE1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E39F5-A0D7-4ED4-B984-0B1444D8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FDE7-566B-4175-9368-5768C64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0D9C-0093-4646-B45A-D74A9B6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B2C7-3CBC-4CA8-9BEC-763E78F5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7750-422B-4E5F-B529-DC0BBC85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C98F-1719-4115-80B5-42B23C35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7AFC-8342-47D7-B0E1-4CD935ED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A31C-D8AC-4C4A-8236-DEC6923E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76EC-4DA3-43DC-AD77-FD099ACB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03B-0DCB-4F2E-9116-902F6672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7BD1-B8CF-479E-A217-F1E19F1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FEFA-D44D-4240-B535-234F7DE6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BB54-9EFE-4A5D-8631-633951A8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3C29-4193-48D6-8E35-1AED9412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ED42-DA2C-48D4-8929-56B57B7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75D3F-888D-4678-A7F9-3CCBA42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9F053-E010-4D1E-815A-D4A822B7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869C-A5F2-4F82-AC30-781B6BB1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2824F-2C73-4D4A-B534-BB693794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EBD2-8B32-4942-88F2-1F03E38D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A1B-8C51-4B2D-8475-B711B8F6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D9F85-B68A-4561-B68D-B16B2A26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D0EA9-4625-4270-9229-5FBEEEE7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35766-C4B1-408B-8473-C065C19F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9CC02-9023-4F7D-9436-7D2D8EE8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7F5B-DA15-4BE4-9168-03DC4B8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A4CA6-400E-44CD-85F8-8A55AFB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4124-4DAB-4336-8F3A-52C17E7D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4ACD3-964F-4E94-AB39-9EECF23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8589B-A914-4AE8-A327-31B3497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05438-C9FC-4452-84BE-F67BB3DC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5AC-0AB2-406B-B0C0-87F3953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DF3D-C1C0-4322-A0E0-1DEF4F65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070DC-858C-4235-9B2E-B976F589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52FB-0DF8-46E7-8A71-8A8729BB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99F3-1541-418E-89B4-DBF803E6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2812-82AB-410F-BC7D-DA0C9787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D890-5D97-474B-9526-6EC384D7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F145C-91D1-4229-B138-239D4B1A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BD434-429C-457F-AEFF-2B9E748D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CF108-1D56-46B4-BD45-C833D37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6AC9C-7471-459A-8E04-E06D648B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26C-D8D9-49D9-8254-76D80846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300D4-CE47-4BE9-A3F9-03900605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FD5AE-5DAE-4C39-BA03-9EB3BE79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92339-34C5-43F5-A7F0-A879D948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086-40CD-4F16-A827-8C15054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CFCC-4A90-45B5-9AAA-3ABE6049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DF4B0-DC53-4BB2-BA36-0739348F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AEBCA-E625-4015-BF25-15279666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57E9C-30A7-4243-9F38-80ABFF11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E7FF5-332D-4E3A-A6C5-E001FE35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7E0-91DD-4B2A-93F1-A92A4BA3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F798D-E0EB-4289-A248-77D9E7EF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8EBB4-E18D-40C5-BC45-E6FA9A75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72140-2FDA-4AFF-A13E-A36F656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D66E-00E8-4CDB-AA14-08E7F84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FD136-0617-4A09-B92E-82D8D863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AA4F-1CA4-4463-B6EB-36F2FD1A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3D674-3DB1-4130-914B-69E69885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A6F95-BC4E-497B-93B9-32966204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B16B-124B-4E51-96CB-6C491FDD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9097-BB30-406E-991A-37252B44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436D-3513-42CA-AC5E-9C6F40EA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1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743A-12E4-4CE3-B62B-D1B708A29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703C-D5BE-4378-880B-7DEA806A1B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164A-A8AD-41F9-9AAB-ABB1B1B94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74B-FA95-4D8E-95A9-583BD64B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892-5EE8-4211-9823-FBDA9CBD7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BA97-7D8C-45DE-8073-D608ADB0184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7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7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1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3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517-BE9E-431C-81E7-9642B9455A1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8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1215-00B2-4CDC-968C-4C15EF8B1D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AAE2-D6C6-4ADE-87FB-CFA733166F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Caracterizarea </a:t>
            </a: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personajului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Harap-Alb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in basmul cult </a:t>
            </a:r>
            <a:r>
              <a:rPr b="1" i="1" lang="ro-RO" sz="3200" spc="-1" strike="noStrike">
                <a:solidFill>
                  <a:srgbClr val="ffffff"/>
                </a:solidFill>
                <a:latin typeface="Tahoma"/>
              </a:rPr>
              <a:t>Povestea lui Harap-Alb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de Ion Creang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90476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03000" y="2854440"/>
            <a:ext cx="450036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rincipa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eponi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ozitiv (întruchipează bine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46600" y="2610000"/>
            <a:ext cx="4397400" cy="424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Modalităţi de caracteriz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Caracterizare directă: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nara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“</a:t>
            </a: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Fiul craiului , boboc in felul sau la trebi de aieste”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celelalte personaj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Fii convins că nu eu, ci puterea milosteniei şi inima ta cea bună te ajută, Harap-Alb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autocaracteriz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2. Caracterizare indirectă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– realizată prin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fapte, limbaj, relaţiile cu celelalte personaje, n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Tahoma"/>
              </a:rPr>
              <a:t>Numele personajulu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La început, personajul nu este individualizat, fiind reperat prin sintagme precum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fiul cel mic al Craiului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”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arap-Alb este numele pe care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i-l dă Spânul. Acest nume reprezintă un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paradox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, constituind o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structură oximoronică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(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Harap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 =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rob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negru</a:t>
            </a:r>
            <a:r>
              <a:rPr b="0" i="1" lang="ro-RO" sz="32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care simbolizează evoluţia personajului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Arial Narrow"/>
              </a:rPr>
              <a:t>Statutul iniţial al personajulu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Neiniţiat, lipsit de experienţa vieţii, inocen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Pentru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a deveni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mp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at, el trebuie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trea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mai multe probe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ş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dovedeas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o serie de calit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,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ntre care  distingerea adev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ului dincolo de aparen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e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66"/>
                </a:solidFill>
                <a:latin typeface="Tahoma"/>
              </a:rPr>
              <a:t>Trăsăturile morale ale personajulu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şi are calităţi umane deosebite, acestea nu sunt actualizate de la început, ci şi le descoperă prin intermediul probelor la care este supus: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milostenia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ţă de bătrâna cerşetoare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bunatatea, curajul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întâlnirea cu roiul de albine şi cu nunta de furnici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nestitatea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(respectarea jurământului) si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ieteni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/spiritul de tovărăşie (faţă de Gerilă, Flamânzilă, Setilă, Ochilă şi Păsări-Lăţi-Lungil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z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7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Harap-Alb r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prezintă omul ideal, ale cărui calităţi sunt preţuite de popor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l rămâne la limita umanului, iar faptele care depăşesc limita realului sunt săvârşite de „adjuvanţii” săi, înzestraţi cu trăsături supranaturale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Harap-Alb întruchipează perfecţiunea, reprezentând un model de conduită morală, un exemplu bun de urm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2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5:56:51Z</dcterms:created>
  <dc:creator>birbi</dc:creator>
  <dc:description/>
  <dc:language>en-US</dc:language>
  <cp:lastModifiedBy>Profesor</cp:lastModifiedBy>
  <dcterms:modified xsi:type="dcterms:W3CDTF">2010-08-24T07:43:40Z</dcterms:modified>
  <cp:revision>13</cp:revision>
  <dc:subject/>
  <dc:title>Caracterizarea lui Harap-Alb</dc:title>
</cp:coreProperties>
</file>