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CF1E-EB6B-4F86-9078-6F33523A5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EEDC-AADF-43CB-978B-1A05E1534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787502-F90C-4601-85C3-1A34DDBFF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C191AB-8607-4C88-94D5-56B02AD7D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EB4F5A-DC3B-408D-AFE3-423BAFC3D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6B3694-BB87-463E-BCED-307DADA4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5E691C-76EF-4B40-8C97-18D892EC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3F01A8-F532-4D83-9FEA-1299B341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E114B-2779-41D4-A393-4F33F091B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E9CAC4-C563-4945-82EF-4C0CFB746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575659-AAF8-4EC0-9A79-D32F96F3F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32469D-B7F6-4135-B381-5FC9A2538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C334-70BD-4006-AAAA-8D265AEF6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F7E303-5F79-4CC6-9EDF-17B9A752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BF4DE1-3375-49CC-BF6E-B8CF4CD21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F466A3-8433-48A1-8C85-3DD338FD0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A4769C-B106-4267-A99C-DCBD326A5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DBD3C6-14F4-4ADA-9954-A6B7AF162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DFEB97-A322-46A7-811D-A884FCF7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E3922F-0888-42E6-A2E1-0C8A3E2D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A8B231-A94E-41F0-A15C-E3BEA18A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15240F-3335-4508-839C-07F5B193C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93ACAF-21CB-4470-8726-24185A576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2DA4-87DC-4B27-B4A5-FA03F4013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6446F0-B270-4603-AB35-0F0A585A3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7E203C-BF35-4041-BCD9-39433E679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57CFCB-3EC8-45E5-95F9-410AA7AA9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6B6375-CDE4-4271-82EE-6859EB04B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89279B-FFED-4D16-9B4B-B3C0AA8DE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6720D0-FD05-4284-B31E-E9A08415B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021E5A-190F-403B-9D92-AE5A2A9EA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54C7B8-4B24-4F27-A3AC-B39022B7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705242-8784-451A-A169-76B06D31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D5DE0D-F271-4CAE-95D1-30D84E47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C42884-B2DB-4056-8B73-C9C8A49A2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078B96-0A80-4E90-9A6E-8D54185AD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1643CE-A25C-4FE6-AB64-ED7EFD354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63DFD5-4DC3-43B6-9AF1-738D8117C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AD4D1B-F9BF-4E77-937E-4CF1D2B3B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931470-170A-4E4C-B127-262CCD837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69309B-B587-4131-B2FF-FC7A673F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AE5AA9-E935-4A57-BE97-60581F2C4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ABFE4E-DA30-4844-B4A5-A3B76C137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7A3EBE-8EC4-49E7-BA20-888F1A6A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63CC-0E7F-423B-980B-3D8C1451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2B1C77-945D-4C58-934A-E9B9E09E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28C30F-14F4-455C-8DC3-8A048C26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EF32C3-B253-4AB2-8D61-3CDBD2670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05C945-59D4-4D18-9B11-F0E03CFAE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A2F778-3B4D-4C48-9F9E-D882D1FB6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95485-623E-478D-84A2-C230ABD92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04575-D87A-442D-82DF-EF216CC50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1659D-6202-4DA0-934E-742E9E79C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77550-4CE6-4C00-8A21-58D779D5F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ED0EA-29FA-4A25-BC8D-F234B3FA5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C4A0-6A84-4802-8BDC-D714B1EDF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55D42-7C63-4831-B51D-EBB449ABC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0F54B-8416-40F0-87AC-C72FEB35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F6C26-D48E-499E-94ED-DA6A6FF0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42494-FE16-4E39-BD22-BAF004DD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8BEFC-7AFF-433E-9A22-F6B2F9437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00F0A-6E55-4EBF-8AF7-DD08D8CF5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38D25-62F0-4821-B86B-A51C3F5FB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C25F7-7982-42A0-85AB-5E6DFE51A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20364-C3A2-4B8D-9DE2-D56437A5E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F11DE-AE5B-4711-B087-E3ABD0454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AF9B-4F96-40EF-B673-874116E9A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AFEB7-982E-4B91-A600-136823663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CDF96-2010-43C7-AB97-ABBE87C09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C47F7-1E71-46CC-90FF-513A47A72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2FAC3-1303-4B01-A3F9-C93556D0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CD39E-5791-4905-B8EE-C02C0BD3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9DB95-AEE4-4106-A78E-0001E574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AA4A0-3DA2-4BFD-A09E-0C7FDE6B5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507A9-6FBD-4ABA-BB2C-ABE90E802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48B7C-FCA6-4CB6-A8C2-AFFBE6A21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65D1E-989C-4937-A18C-7498BE510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2DA2-28DA-4149-B8A7-D50B92FDD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40838-5E39-4FE6-999B-23A098419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9B71B-B7B2-40B6-9CDD-ACD3C7C8D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7DEBA-C35B-4954-90AB-376850D40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729E1-F3E9-462F-84BC-B20CE80FF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7A848-E60D-4236-A0AB-93D49C93D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10FBF-2E01-49E7-9F55-4499D5B9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B3273-B32D-42DD-A424-C84BCE37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A1EA3-AC9C-4B03-9E54-B30D2C33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5C5D3-8ECC-4748-9D33-AB69947E6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C4BF6-34FA-4516-9031-65FE953F9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CBF8-0C84-455C-B09D-034F0A5F4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3281F-3D3D-487F-A53B-2E3F7C9B0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F1D24-B1A0-4A3B-AA44-CF93EB169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39559-03BF-4455-B2F8-8E6ECE669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1CBB4-D891-497A-B6AE-434557247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8B506-0667-445E-A38C-8A263F424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8D16A2-F16A-4378-B47E-883BACB6F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D6D7B-696C-4722-8480-646E931A1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C03B9-9623-40D6-BFE0-1907D353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4DE3D-24E6-4444-AA55-16DABA89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9F678-3D66-4417-8674-E02D9D02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6E93-A566-4330-B997-0C0D91BD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A4960-9BAC-4B5C-B930-8DDC70B67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D71E7-322E-4E61-B02A-8B2859E8A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CD0B1-E7CE-453A-B46D-1681D0C29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53F6-01A3-4FFD-ADAB-A7F83132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59D9C-2B0C-4A1A-8FCD-77CE245FF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525B3-8367-42B8-9E06-481C3BCDD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965DA3-7DDD-4088-B46D-DC89F29B6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0CEB19-C5FF-4AE2-B8B5-962FEBE1F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82B39-3CBB-4857-B2CD-9CBB8171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71D0-D1C8-4E0C-A03B-F0B324EE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9C2C93-AF2E-43FC-B2B9-DFF8DB27E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5681BF-ADF1-459A-98D4-C17ED1C6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32985-C81C-49EF-919F-2EC51ACB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0C8CD3-BD51-410E-A56A-2BE36A3B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681843-554E-4D2A-92CF-9F2F04836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42D18-EF95-4BB6-872C-D98A1BC4E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EF21D-2159-452E-A47E-54465AE8E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64A65-1D0B-4113-AB21-DB382A732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505239-71B0-41D6-9724-5A8DE53D1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93C0C4-7ED9-4991-A7A5-1B3752BAF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E87E5-17A3-4226-9086-C6C07D6BB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16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79B23-B738-4EB9-96FB-011D8F71877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5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66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dt" idx="2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ftr" idx="2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04BC3-7F67-4697-A9A4-6A8CE08248D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0A6AA-2999-426A-971A-E9770A278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F6E35-5ADA-4113-A5DC-AFA7C7171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5C527-00D2-46FB-9E7B-657D3AFF3C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3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4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5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36B47-0FC9-4150-BDDF-62553182E8C8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69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172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75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78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1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22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22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22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23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2" name="PlaceHolder 2"/>
          <p:cNvSpPr>
            <a:spLocks noGrp="1"/>
          </p:cNvSpPr>
          <p:nvPr>
            <p:ph type="dt" idx="16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7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sldNum" idx="18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9B366-FED8-4F4F-A615-01EF40C1AE6E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272" name="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279" name="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282" name="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285" name="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288" name="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29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F004B-DEA5-452C-BC86-8D8C372EBBD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373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5" name="PlaceHolder 1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BF2B8-81A4-494C-A60A-41A6B5B1926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ahoma"/>
              </a:rPr>
              <a:t>Caracterizarea </a:t>
            </a:r>
            <a:r>
              <a:rPr b="1" lang="ro-RO" sz="4400" spc="-1" strike="noStrike">
                <a:solidFill>
                  <a:srgbClr val="a50021"/>
                </a:solidFill>
                <a:latin typeface="Tahoma"/>
              </a:rPr>
              <a:t>personajului</a:t>
            </a:r>
            <a:r>
              <a:rPr b="1" lang="en-US" sz="4400" spc="-1" strike="noStrike">
                <a:solidFill>
                  <a:srgbClr val="a50021"/>
                </a:solidFill>
                <a:latin typeface="Tahoma"/>
              </a:rPr>
              <a:t> Harap-Alb</a:t>
            </a: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400"/>
            </a:br>
            <a:r>
              <a:rPr b="1" lang="ro-RO" sz="3200" spc="-1" strike="noStrike">
                <a:solidFill>
                  <a:srgbClr val="ffffff"/>
                </a:solidFill>
                <a:latin typeface="Tahoma"/>
              </a:rPr>
              <a:t>din basmul cult </a:t>
            </a:r>
            <a:r>
              <a:rPr b="1" i="1" lang="ro-RO" sz="3200" spc="-1" strike="noStrike">
                <a:solidFill>
                  <a:srgbClr val="ffffff"/>
                </a:solidFill>
                <a:latin typeface="Tahoma"/>
              </a:rPr>
              <a:t>Povestea lui Harap-Alb</a:t>
            </a:r>
            <a:r>
              <a:rPr b="1" lang="ro-RO" sz="3200" spc="-1" strike="noStrike">
                <a:solidFill>
                  <a:srgbClr val="ffffff"/>
                </a:solidFill>
                <a:latin typeface="Tahoma"/>
              </a:rPr>
              <a:t> de Ion Creang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57200" y="1904760"/>
            <a:ext cx="403848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603000" y="2854440"/>
            <a:ext cx="450036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Personaj principal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Personaj eponim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Personaj pozitiv (întruchipează binel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4746600" y="2610000"/>
            <a:ext cx="4397400" cy="4248000"/>
          </a:xfrm>
          <a:prstGeom prst="rect">
            <a:avLst/>
          </a:prstGeom>
          <a:ln w="0">
            <a:noFill/>
          </a:ln>
        </p:spPr>
      </p:pic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a50021"/>
                </a:solidFill>
                <a:latin typeface="Tahoma"/>
              </a:rPr>
              <a:t>Modalităţi de caracterizar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660033"/>
                </a:solidFill>
                <a:latin typeface="Tahoma"/>
              </a:rPr>
              <a:t> </a:t>
            </a:r>
            <a:r>
              <a:rPr b="1" lang="ro-RO" sz="3200" spc="-1" strike="noStrike">
                <a:solidFill>
                  <a:srgbClr val="660033"/>
                </a:solidFill>
                <a:latin typeface="Tahoma"/>
              </a:rPr>
              <a:t>Caracterizare directă: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o-RO" sz="3200" spc="-1" strike="noStrike">
                <a:solidFill>
                  <a:srgbClr val="ffcc66"/>
                </a:solidFill>
                <a:latin typeface="Tahoma"/>
              </a:rPr>
              <a:t>de către narato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“</a:t>
            </a:r>
            <a:r>
              <a:rPr b="0" i="1" lang="it-IT" sz="2800" spc="-1" strike="noStrike">
                <a:solidFill>
                  <a:srgbClr val="ffffff"/>
                </a:solidFill>
                <a:latin typeface="Tahoma"/>
              </a:rPr>
              <a:t>Fiul craiului , boboc in felul sau la trebi de aieste”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o-RO" sz="3200" spc="-1" strike="noStrike">
                <a:solidFill>
                  <a:srgbClr val="ffcc66"/>
                </a:solidFill>
                <a:latin typeface="Tahoma"/>
              </a:rPr>
              <a:t>de către celelalte personaje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ro-RO" sz="2800" spc="-1" strike="noStrike">
                <a:solidFill>
                  <a:srgbClr val="ffffff"/>
                </a:solidFill>
                <a:latin typeface="Tahoma"/>
              </a:rPr>
              <a:t>Fii convins că nu eu, ci puterea milosteniei şi inima ta cea bună te ajută, Harap-Alb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”</a:t>
            </a:r>
            <a:r>
              <a:rPr b="0" i="1" lang="ro-RO" sz="28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o-RO" sz="3200" spc="-1" strike="noStrike">
                <a:solidFill>
                  <a:srgbClr val="ffcc66"/>
                </a:solidFill>
                <a:latin typeface="Tahoma"/>
              </a:rPr>
              <a:t>autocaracteriz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660033"/>
                </a:solidFill>
                <a:latin typeface="Tahoma"/>
              </a:rPr>
              <a:t>2. Caracterizare indirectă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 – realizată prin </a:t>
            </a:r>
            <a:r>
              <a:rPr b="0" lang="ro-RO" sz="3200" spc="-1" strike="noStrike">
                <a:solidFill>
                  <a:srgbClr val="ffcc66"/>
                </a:solidFill>
                <a:latin typeface="Tahoma"/>
              </a:rPr>
              <a:t>fapte, limbaj, relaţiile cu celelalte personaje, nu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a50021"/>
                </a:solidFill>
                <a:latin typeface="Tahoma"/>
              </a:rPr>
              <a:t>Numele personajului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8f8f8"/>
                </a:solidFill>
                <a:latin typeface="Tahoma"/>
              </a:rPr>
              <a:t>La început, personajul nu este individualizat, fiind reperat prin sintagme precum 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“</a:t>
            </a:r>
            <a:r>
              <a:rPr b="0" lang="ro-RO" sz="3200" spc="-1" strike="noStrike">
                <a:solidFill>
                  <a:srgbClr val="f8f8f8"/>
                </a:solidFill>
                <a:latin typeface="Tahoma"/>
              </a:rPr>
              <a:t>fiul cel mic al Craiului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”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Harap-Alb este numele pe care </a:t>
            </a:r>
            <a:r>
              <a:rPr b="0" lang="ro-RO" sz="3200" spc="-1" strike="noStrike">
                <a:solidFill>
                  <a:srgbClr val="f8f8f8"/>
                </a:solidFill>
                <a:latin typeface="Tahoma"/>
              </a:rPr>
              <a:t>i-l dă Spânul. Acest nume reprezintă un </a:t>
            </a:r>
            <a:r>
              <a:rPr b="0" lang="ro-RO" sz="3200" spc="-1" strike="noStrike" u="sng">
                <a:solidFill>
                  <a:srgbClr val="f8f8f8"/>
                </a:solidFill>
                <a:uFillTx/>
                <a:latin typeface="Tahoma"/>
              </a:rPr>
              <a:t>paradox</a:t>
            </a:r>
            <a:r>
              <a:rPr b="0" lang="ro-RO" sz="3200" spc="-1" strike="noStrike">
                <a:solidFill>
                  <a:srgbClr val="f8f8f8"/>
                </a:solidFill>
                <a:latin typeface="Tahoma"/>
              </a:rPr>
              <a:t>, constituind o </a:t>
            </a:r>
            <a:r>
              <a:rPr b="0" lang="ro-RO" sz="3200" spc="-1" strike="noStrike" u="sng">
                <a:solidFill>
                  <a:srgbClr val="f8f8f8"/>
                </a:solidFill>
                <a:uFillTx/>
                <a:latin typeface="Tahoma"/>
              </a:rPr>
              <a:t>structură oximoronică</a:t>
            </a:r>
            <a:r>
              <a:rPr b="0" lang="ro-RO" sz="3200" spc="-1" strike="noStrike">
                <a:solidFill>
                  <a:srgbClr val="f8f8f8"/>
                </a:solidFill>
                <a:latin typeface="Tahoma"/>
              </a:rPr>
              <a:t> (</a:t>
            </a:r>
            <a:r>
              <a:rPr b="1" i="1" lang="ro-RO" sz="3200" spc="-1" strike="noStrike">
                <a:solidFill>
                  <a:srgbClr val="f8f8f8"/>
                </a:solidFill>
                <a:latin typeface="Tahoma"/>
              </a:rPr>
              <a:t>Harap</a:t>
            </a:r>
            <a:r>
              <a:rPr b="1" lang="ro-RO" sz="3200" spc="-1" strike="noStrike">
                <a:solidFill>
                  <a:srgbClr val="f8f8f8"/>
                </a:solidFill>
                <a:latin typeface="Tahoma"/>
              </a:rPr>
              <a:t> = </a:t>
            </a:r>
            <a:r>
              <a:rPr b="1" i="1" lang="ro-RO" sz="3200" spc="-1" strike="noStrike">
                <a:solidFill>
                  <a:srgbClr val="f8f8f8"/>
                </a:solidFill>
                <a:latin typeface="Tahoma"/>
              </a:rPr>
              <a:t>rob</a:t>
            </a:r>
            <a:r>
              <a:rPr b="1" lang="ro-RO" sz="3200" spc="-1" strike="noStrike">
                <a:solidFill>
                  <a:srgbClr val="f8f8f8"/>
                </a:solidFill>
                <a:latin typeface="Tahoma"/>
              </a:rPr>
              <a:t>, </a:t>
            </a:r>
            <a:r>
              <a:rPr b="1" i="1" lang="ro-RO" sz="3200" spc="-1" strike="noStrike">
                <a:solidFill>
                  <a:srgbClr val="f8f8f8"/>
                </a:solidFill>
                <a:latin typeface="Tahoma"/>
              </a:rPr>
              <a:t>negru</a:t>
            </a:r>
            <a:r>
              <a:rPr b="0" i="1" lang="ro-RO" sz="32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ro-RO" sz="3200" spc="-1" strike="noStrike">
                <a:solidFill>
                  <a:srgbClr val="f8f8f8"/>
                </a:solidFill>
                <a:latin typeface="Tahoma"/>
              </a:rPr>
              <a:t>care simbolizează evoluţia personajului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a50021"/>
                </a:solidFill>
                <a:latin typeface="Arial Narrow"/>
              </a:rPr>
              <a:t>Statutul iniţial al personajului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Neiniţiat, lipsit de experienţa vieţii, inocent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marL="3085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Pentru</a:t>
            </a:r>
            <a:r>
              <a:rPr b="0" lang="it-IT" sz="4000" spc="-1" strike="noStrike">
                <a:solidFill>
                  <a:srgbClr val="000000"/>
                </a:solidFill>
                <a:latin typeface="Monotype Corsiva"/>
              </a:rPr>
              <a:t> a deveni </a:t>
            </a: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î</a:t>
            </a:r>
            <a:r>
              <a:rPr b="0" lang="it-IT" sz="4000" spc="-1" strike="noStrike">
                <a:solidFill>
                  <a:srgbClr val="000000"/>
                </a:solidFill>
                <a:latin typeface="Monotype Corsiva"/>
              </a:rPr>
              <a:t>mp</a:t>
            </a: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ă</a:t>
            </a:r>
            <a:r>
              <a:rPr b="0" lang="it-IT" sz="4000" spc="-1" strike="noStrike">
                <a:solidFill>
                  <a:srgbClr val="000000"/>
                </a:solidFill>
                <a:latin typeface="Monotype Corsiva"/>
              </a:rPr>
              <a:t>rat, el trebuie s</a:t>
            </a: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ă</a:t>
            </a:r>
            <a:r>
              <a:rPr b="0" lang="it-IT" sz="4000" spc="-1" strike="noStrike">
                <a:solidFill>
                  <a:srgbClr val="000000"/>
                </a:solidFill>
                <a:latin typeface="Monotype Corsiva"/>
              </a:rPr>
              <a:t> treac</a:t>
            </a: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ă</a:t>
            </a:r>
            <a:r>
              <a:rPr b="0" lang="it-IT" sz="4000" spc="-1" strike="noStrike">
                <a:solidFill>
                  <a:srgbClr val="000000"/>
                </a:solidFill>
                <a:latin typeface="Monotype Corsiva"/>
              </a:rPr>
              <a:t> mai multe probe </a:t>
            </a: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ş</a:t>
            </a:r>
            <a:r>
              <a:rPr b="0" lang="it-IT" sz="4000" spc="-1" strike="noStrike">
                <a:solidFill>
                  <a:srgbClr val="000000"/>
                </a:solidFill>
                <a:latin typeface="Monotype Corsiva"/>
              </a:rPr>
              <a:t>i s</a:t>
            </a: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ă</a:t>
            </a:r>
            <a:r>
              <a:rPr b="0" lang="it-IT" sz="4000" spc="-1" strike="noStrike">
                <a:solidFill>
                  <a:srgbClr val="000000"/>
                </a:solidFill>
                <a:latin typeface="Monotype Corsiva"/>
              </a:rPr>
              <a:t> dovedeasc</a:t>
            </a: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ă</a:t>
            </a:r>
            <a:r>
              <a:rPr b="0" lang="it-IT" sz="4000" spc="-1" strike="noStrike">
                <a:solidFill>
                  <a:srgbClr val="000000"/>
                </a:solidFill>
                <a:latin typeface="Monotype Corsiva"/>
              </a:rPr>
              <a:t> o serie de calit</a:t>
            </a: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ăţ</a:t>
            </a:r>
            <a:r>
              <a:rPr b="0" lang="it-IT" sz="4000" spc="-1" strike="noStrike">
                <a:solidFill>
                  <a:srgbClr val="000000"/>
                </a:solidFill>
                <a:latin typeface="Monotype Corsiva"/>
              </a:rPr>
              <a:t>i, </a:t>
            </a: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î</a:t>
            </a:r>
            <a:r>
              <a:rPr b="0" lang="it-IT" sz="4000" spc="-1" strike="noStrike">
                <a:solidFill>
                  <a:srgbClr val="000000"/>
                </a:solidFill>
                <a:latin typeface="Monotype Corsiva"/>
              </a:rPr>
              <a:t>ntre care  distingerea adev</a:t>
            </a: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ă</a:t>
            </a:r>
            <a:r>
              <a:rPr b="0" lang="it-IT" sz="4000" spc="-1" strike="noStrike">
                <a:solidFill>
                  <a:srgbClr val="000000"/>
                </a:solidFill>
                <a:latin typeface="Monotype Corsiva"/>
              </a:rPr>
              <a:t>rului dincolo de aparen</a:t>
            </a: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ţ</a:t>
            </a:r>
            <a:r>
              <a:rPr b="0" lang="it-IT" sz="4000" spc="-1" strike="noStrike">
                <a:solidFill>
                  <a:srgbClr val="000000"/>
                </a:solidFill>
                <a:latin typeface="Monotype Corsiva"/>
              </a:rPr>
              <a:t>e.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marL="3085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cc66"/>
                </a:solidFill>
                <a:latin typeface="Tahoma"/>
              </a:rPr>
              <a:t>Trăsăturile morale ale personajulu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Deşi are calităţi umane deosebite, acestea nu sunt actualizate de la început, ci şi le descoperă prin intermediul probelor la care este supus: </a:t>
            </a: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milostenia 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faţă de bătrâna cerşetoare), </a:t>
            </a: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bunatatea, curajul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 (întâlnirea cu roiul de albine şi cu nunta de furnici), </a:t>
            </a: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onestitatea 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(respectarea jurământului) si </a:t>
            </a: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prietenia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/spiritul de tovărăşie (faţă de Gerilă, Flamânzilă, Setilă, Ochilă şi Păsări-Lăţi-Lungilă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385120" cy="10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ncluzi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3772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Arial"/>
              </a:rPr>
              <a:t>Harap-Alb r</a:t>
            </a:r>
            <a:r>
              <a:rPr b="1" lang="ro-RO" sz="3200" spc="-1" strike="noStrike">
                <a:solidFill>
                  <a:srgbClr val="ccff99"/>
                </a:solidFill>
                <a:latin typeface="Arial"/>
              </a:rPr>
              <a:t>eprezintă omul ideal, ale cărui calităţi sunt preţuite de popor.</a:t>
            </a:r>
            <a:r>
              <a:rPr b="1" lang="en-US" sz="3200" spc="-1" strike="noStrike">
                <a:solidFill>
                  <a:srgbClr val="ccff99"/>
                </a:solidFill>
                <a:latin typeface="Arial"/>
              </a:rPr>
              <a:t> </a:t>
            </a:r>
            <a:r>
              <a:rPr b="1" lang="ro-RO" sz="3200" spc="-1" strike="noStrike">
                <a:solidFill>
                  <a:srgbClr val="ccff99"/>
                </a:solidFill>
                <a:latin typeface="Arial"/>
              </a:rPr>
              <a:t>El rămâne la limita umanului, iar faptele care depăşesc limita realului sunt săvârşite de „adjuvanţii” săi, înzestraţi cu trăsături supranaturale.</a:t>
            </a:r>
            <a:r>
              <a:rPr b="1" lang="en-US" sz="3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ff99"/>
                </a:solidFill>
                <a:latin typeface="Arial"/>
              </a:rPr>
              <a:t>Harap-Alb întruchipează perfecţiunea, reprezentând un model de conduită morală, un exemplu bun de urma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52156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2T15:56:51Z</dcterms:created>
  <dc:creator>birbi</dc:creator>
  <dc:description/>
  <dc:language>en-US</dc:language>
  <cp:lastModifiedBy>Profesor</cp:lastModifiedBy>
  <dcterms:modified xsi:type="dcterms:W3CDTF">2010-08-24T07:43:40Z</dcterms:modified>
  <cp:revision>13</cp:revision>
  <dc:subject/>
  <dc:title>Caracterizarea lui Harap-Alb</dc:title>
</cp:coreProperties>
</file>