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195C-8B61-4581-B4F4-8EFB7CC5F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7887-07CB-4757-A71C-31A79A3D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4D9EE-0794-406C-ABB5-E1FB30D9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F6F37-148E-4E3C-9788-8688AD55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F1307-D93E-424D-BEFB-545BD605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AD211-4974-4ED6-90AF-CA9B17CE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6F608-18C2-48AA-ADB2-C28D8A1A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167AE-4A03-4937-A575-73CA9D09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6C82B-068B-4F24-9452-276E9B59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A1FBA-FA55-497B-970C-710682538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48ACC-68E2-4974-A204-E6076E22F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79A12A-90E8-4762-A44C-3DAA96867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741E-AD6A-43D2-B42C-CD7EAD481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81E34-94AA-40CC-9A32-D567D9C1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66A7C-BEEA-4678-BDD6-7D7FEF93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1BC3A1-395B-4072-8730-9FAB289C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92405-EC51-4EEC-B885-0FF28AC8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2109F-0CCD-4FDD-9A86-53AD7548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F9ED20-3E57-481E-8536-393F28DE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FD755-CD90-49AF-A226-47588752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3BEF1-AF3E-48EA-81E3-0D5B6B71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C95F1-BC91-4EAD-931D-D635DEA3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520E1-37FD-4213-B30C-BF3E6CED8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5C7A-C21F-4A20-A800-8FA2D2F19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CEFBD-19DB-4D23-ACDA-DD88D3A2B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C2235-2307-4CD4-958A-7C3764969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8014E0-719E-4C51-A013-87CDB553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643D7F-EBCA-4398-95BA-BEA3167F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AAFCD-C6F9-48B3-B036-0790BA13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75269D-B019-443E-AF0D-59F7F441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2B4DA-0231-496B-AC22-4042824F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99CEA8-84D8-4242-AB32-8D165205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24CCF2-DFE8-4AE7-99EA-09565BFD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C02A91-A8D4-43CB-993D-C838F078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1369C-281C-4C5C-9B66-F21EF52D4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6839B-22DD-4C3D-AF23-55D9BDA8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91788-20C7-47BE-B09D-E68A9D4D7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B4A5BE-6199-4606-BCCD-ECD8F25EB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52627-2CC5-48F0-BBDE-C6C5AAD4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27362-81D3-4D5A-854E-3B1EDA2D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BD7E9-941E-43E1-B95E-167751AB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2C7EB-47F4-4A53-A9F6-660C88A1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F38E1-35E3-466A-AB15-854892D4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B85E3-BC21-48E9-8F67-718ED200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3B01-B126-46DF-AF23-FA3524E0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109E0-FE9C-4A51-AF31-949E1A69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84386-1DA8-44DA-8C92-8256B2C6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4551E-5266-4860-952B-B36EFC42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4D891-B905-48D9-B3AA-DDF998F5C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835EA-1730-47B0-8BCD-DEEC03C8F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68241-D13E-4CA5-A9B0-060101D5D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2792B-E6E9-48DC-B6C6-5CA66ECA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E507D-F746-4173-989E-E16156B8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4E7A8-48A2-4AEF-BD9D-F4D69B32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DCD47-E73A-4542-AB12-4221DA72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3B33-813A-4713-B185-58857320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0CB7E-4BE1-4CAF-A712-E1F46FDA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5867D-0679-4CFF-AC3A-A7D6A12E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2716B-B676-41AC-95C1-8C25A95E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FF0D1-B933-4923-A326-58969608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BDBD8-06D5-4631-9F4E-B154D678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DD2BF-D44E-482F-AECF-65538A65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FB2CB-1349-4A01-A2E6-6CD1C7EE3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2B88F-FF56-47A1-881D-E3E901DBA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8C4B4-55CB-4459-AF7E-7B5C9F61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CF37F-305B-4F03-BC5B-EAFD9B15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CE79-9A77-496C-A690-7A7BCD54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C6E41-6817-4662-9EC9-B6F0EB11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F6C17-4E0B-4E3D-8F62-8F57E127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C408C-E230-44F8-8819-46FFA33D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ECFBE-4430-498C-8E5B-CA23CB83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F7ECC-4765-4FC4-8031-01370FC4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87ECB-98B4-45D1-963A-FBA8ED6F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2C914-1B99-4C58-AC44-EA583E41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7E56F-A57D-4E11-908C-4B721AF10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2A2CC-06C7-4534-9C58-428D402BC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F7249-143F-4059-A598-D9BB089E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F6EB-31F9-425A-A4E3-2F7B2CE3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8B169-C4CE-453C-BA38-2CEC73DD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04EB5-DEF7-4F48-A59D-E0CC7E40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76700-C626-42F7-880D-F08BA52B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B9752-E05E-4A93-83B7-C77668C5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EC8EE-A849-4322-884B-44778F6E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520C1-B353-4C93-AE6F-F7CE27E8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E5A7E-6821-4D00-9BFD-92704A66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ECD0A-06F4-4538-9891-000E98BA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BC3A7-B76B-4460-B256-FD306EDC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CDD15-25D0-4B5A-9AFD-01B3F2EC8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1C35-1A80-4752-BD55-832B1B0A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90AB4-AEC6-4598-9B9C-07E4E731C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9CF0E-782A-4AFB-8CF7-C4DC051B3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2B441-6DC7-4B6F-98B7-636B23F6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79359-06C9-414B-91A9-7D9B3C42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AFC2F-6150-47E5-97DF-FA295237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EF15B-A7E2-45FD-8FD5-76765903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FF25D-1ECA-4119-97B3-61AF117E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09E5C-7D24-4CB6-B9A7-3D6AD41C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08C34-8EC9-4F1B-BB7A-241B6118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594E0-061A-40A3-953C-3F4FBA19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69D4-14DD-48F8-ABC0-517C8840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E0DE1-D761-4340-A878-09D949A5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118B5-40F9-408C-A13F-0D59A2274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D9B95-732F-4A89-A295-F2113850C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6364-E344-4F63-84B8-1404A81B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98772-756A-41CC-8E99-D764F5E43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8C2F7-6CC3-418A-9D59-6E66DA8D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8F99D-9E84-43EA-A0DC-53527BA8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ACB5F-E2EE-4F6F-B884-18BDC2F7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EFD87-8496-4EDE-A02D-CFA8AA34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0DA9-6421-4B4E-AD34-B7A11242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B5D02-911E-48DC-B2BD-A1287AA1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E709B-4932-433E-A16D-698688D9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20281-FE83-41EC-B417-83138D00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9FF88-BBB3-47AB-9AAE-23D825E6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41081-140A-4C79-8AAE-D9569C2B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3E19C-93FD-4D61-8C00-9D63BB6CA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C9324-9B1B-4541-ADA4-38FF69A1D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1F802-7F29-4A5C-A938-3D9874C64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5AB5A-CF39-4AC8-B7D9-35F4CEF7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F496A-7278-46EA-9FA3-D6447956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3D9A-59E7-451C-9B7C-E54F0DA18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16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D5DC-F2E5-4080-AB89-2A019587F2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66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5A1C-198F-4DA6-8DC9-297C6A78FE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4974-1F60-46E0-9859-E2C97E80A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2898-9F4A-4EDF-BE42-F263AC578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D4BA-7506-4578-B9ED-AC348A84D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3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4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5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3D48-0D03-43C3-8415-C8645ABCA194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69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172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75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78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1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22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22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22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23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PlaceHolder 2"/>
          <p:cNvSpPr>
            <a:spLocks noGrp="1"/>
          </p:cNvSpPr>
          <p:nvPr>
            <p:ph type="dt" idx="16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7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sldNum" idx="18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8BB9-DC59-471F-B74E-20A0AC766237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72" name="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279" name="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282" name="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285" name="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288" name="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29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9D41-2B30-43AE-A0E4-AA13563F7AE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73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2C76-449E-4827-B8ED-305E9ACCD2F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Caracterizarea </a:t>
            </a:r>
            <a:r>
              <a:rPr b="1" lang="ro-RO" sz="4400" spc="-1" strike="noStrike">
                <a:solidFill>
                  <a:srgbClr val="a50021"/>
                </a:solidFill>
                <a:latin typeface="Tahoma"/>
              </a:rPr>
              <a:t>personajului</a:t>
            </a: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 Harap-Alb</a:t>
            </a: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400"/>
            </a:b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din basmul cult </a:t>
            </a:r>
            <a:r>
              <a:rPr b="1" i="1" lang="ro-RO" sz="3200" spc="-1" strike="noStrike">
                <a:solidFill>
                  <a:srgbClr val="ffffff"/>
                </a:solidFill>
                <a:latin typeface="Tahoma"/>
              </a:rPr>
              <a:t>Povestea lui Harap-Alb</a:t>
            </a: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 de Ion Creang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1904760"/>
            <a:ext cx="403848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603000" y="2854440"/>
            <a:ext cx="450036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Personaj principal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Personaj eponim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Personaj pozitiv (întruchipează binel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4746600" y="2610000"/>
            <a:ext cx="4397400" cy="424800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a50021"/>
                </a:solidFill>
                <a:latin typeface="Tahoma"/>
              </a:rPr>
              <a:t>Modalităţi de caracteriza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ro-RO" sz="3200" spc="-1" strike="noStrike">
                <a:solidFill>
                  <a:srgbClr val="660033"/>
                </a:solidFill>
                <a:latin typeface="Tahoma"/>
              </a:rPr>
              <a:t>Caracterizare directă: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o-RO" sz="3200" spc="-1" strike="noStrike">
                <a:solidFill>
                  <a:srgbClr val="ffcc66"/>
                </a:solidFill>
                <a:latin typeface="Tahoma"/>
              </a:rPr>
              <a:t>de către narato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“</a:t>
            </a:r>
            <a:r>
              <a:rPr b="0" i="1" lang="it-IT" sz="2800" spc="-1" strike="noStrike">
                <a:solidFill>
                  <a:srgbClr val="ffffff"/>
                </a:solidFill>
                <a:latin typeface="Tahoma"/>
              </a:rPr>
              <a:t>Fiul craiului , boboc in felul sau la trebi de aieste”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o-RO" sz="3200" spc="-1" strike="noStrike">
                <a:solidFill>
                  <a:srgbClr val="ffcc66"/>
                </a:solidFill>
                <a:latin typeface="Tahoma"/>
              </a:rPr>
              <a:t>de către celelalte personaje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ro-RO" sz="2800" spc="-1" strike="noStrike">
                <a:solidFill>
                  <a:srgbClr val="ffffff"/>
                </a:solidFill>
                <a:latin typeface="Tahoma"/>
              </a:rPr>
              <a:t>Fii convins că nu eu, ci puterea milosteniei şi inima ta cea bună te ajută, Harap-Alb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i="1" lang="ro-RO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o-RO" sz="3200" spc="-1" strike="noStrike">
                <a:solidFill>
                  <a:srgbClr val="ffcc66"/>
                </a:solidFill>
                <a:latin typeface="Tahoma"/>
              </a:rPr>
              <a:t>autocaracteriz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660033"/>
                </a:solidFill>
                <a:latin typeface="Tahoma"/>
              </a:rPr>
              <a:t>2. Caracterizare indirectă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 – realizată prin </a:t>
            </a:r>
            <a:r>
              <a:rPr b="0" lang="ro-RO" sz="3200" spc="-1" strike="noStrike">
                <a:solidFill>
                  <a:srgbClr val="ffcc66"/>
                </a:solidFill>
                <a:latin typeface="Tahoma"/>
              </a:rPr>
              <a:t>fapte, limbaj, relaţiile cu celelalte personaje, nu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a50021"/>
                </a:solidFill>
                <a:latin typeface="Tahoma"/>
              </a:rPr>
              <a:t>Numele personajului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8f8f8"/>
                </a:solidFill>
                <a:latin typeface="Tahoma"/>
              </a:rPr>
              <a:t>La început, personajul nu este individualizat, fiind reperat prin sintagme precum 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ro-RO" sz="3200" spc="-1" strike="noStrike">
                <a:solidFill>
                  <a:srgbClr val="f8f8f8"/>
                </a:solidFill>
                <a:latin typeface="Tahoma"/>
              </a:rPr>
              <a:t>fiul cel mic al Craiului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”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Harap-Alb este numele pe care </a:t>
            </a:r>
            <a:r>
              <a:rPr b="0" lang="ro-RO" sz="3200" spc="-1" strike="noStrike">
                <a:solidFill>
                  <a:srgbClr val="f8f8f8"/>
                </a:solidFill>
                <a:latin typeface="Tahoma"/>
              </a:rPr>
              <a:t>i-l dă Spânul. Acest nume reprezintă un </a:t>
            </a:r>
            <a:r>
              <a:rPr b="0" lang="ro-RO" sz="3200" spc="-1" strike="noStrike" u="sng">
                <a:solidFill>
                  <a:srgbClr val="f8f8f8"/>
                </a:solidFill>
                <a:uFillTx/>
                <a:latin typeface="Tahoma"/>
              </a:rPr>
              <a:t>paradox</a:t>
            </a:r>
            <a:r>
              <a:rPr b="0" lang="ro-RO" sz="3200" spc="-1" strike="noStrike">
                <a:solidFill>
                  <a:srgbClr val="f8f8f8"/>
                </a:solidFill>
                <a:latin typeface="Tahoma"/>
              </a:rPr>
              <a:t>, constituind o </a:t>
            </a:r>
            <a:r>
              <a:rPr b="0" lang="ro-RO" sz="3200" spc="-1" strike="noStrike" u="sng">
                <a:solidFill>
                  <a:srgbClr val="f8f8f8"/>
                </a:solidFill>
                <a:uFillTx/>
                <a:latin typeface="Tahoma"/>
              </a:rPr>
              <a:t>structură oximoronică</a:t>
            </a:r>
            <a:r>
              <a:rPr b="0" lang="ro-RO" sz="3200" spc="-1" strike="noStrike">
                <a:solidFill>
                  <a:srgbClr val="f8f8f8"/>
                </a:solidFill>
                <a:latin typeface="Tahoma"/>
              </a:rPr>
              <a:t> (</a:t>
            </a:r>
            <a:r>
              <a:rPr b="1" i="1" lang="ro-RO" sz="3200" spc="-1" strike="noStrike">
                <a:solidFill>
                  <a:srgbClr val="f8f8f8"/>
                </a:solidFill>
                <a:latin typeface="Tahoma"/>
              </a:rPr>
              <a:t>Harap</a:t>
            </a:r>
            <a:r>
              <a:rPr b="1" lang="ro-RO" sz="3200" spc="-1" strike="noStrike">
                <a:solidFill>
                  <a:srgbClr val="f8f8f8"/>
                </a:solidFill>
                <a:latin typeface="Tahoma"/>
              </a:rPr>
              <a:t> = </a:t>
            </a:r>
            <a:r>
              <a:rPr b="1" i="1" lang="ro-RO" sz="3200" spc="-1" strike="noStrike">
                <a:solidFill>
                  <a:srgbClr val="f8f8f8"/>
                </a:solidFill>
                <a:latin typeface="Tahoma"/>
              </a:rPr>
              <a:t>rob</a:t>
            </a:r>
            <a:r>
              <a:rPr b="1" lang="ro-RO" sz="3200" spc="-1" strike="noStrike">
                <a:solidFill>
                  <a:srgbClr val="f8f8f8"/>
                </a:solidFill>
                <a:latin typeface="Tahoma"/>
              </a:rPr>
              <a:t>, </a:t>
            </a:r>
            <a:r>
              <a:rPr b="1" i="1" lang="ro-RO" sz="3200" spc="-1" strike="noStrike">
                <a:solidFill>
                  <a:srgbClr val="f8f8f8"/>
                </a:solidFill>
                <a:latin typeface="Tahoma"/>
              </a:rPr>
              <a:t>negru</a:t>
            </a:r>
            <a:r>
              <a:rPr b="0" i="1" lang="ro-RO" sz="32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ro-RO" sz="3200" spc="-1" strike="noStrike">
                <a:solidFill>
                  <a:srgbClr val="f8f8f8"/>
                </a:solidFill>
                <a:latin typeface="Tahoma"/>
              </a:rPr>
              <a:t>care simbolizează evoluţia personajului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a50021"/>
                </a:solidFill>
                <a:latin typeface="Arial Narrow"/>
              </a:rPr>
              <a:t>Statutul iniţial al personajului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Neiniţiat, lipsit de experienţa vieţii, inocent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308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Pentru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 a deveni 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î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mp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ă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rat, el trebuie s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ă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 treac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ă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 mai multe probe 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ş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i s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ă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 dovedeasc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ă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 o serie de calit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ăţ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i, 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î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ntre care  distingerea adev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ă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rului dincolo de aparen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ţ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e.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308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cc66"/>
                </a:solidFill>
                <a:latin typeface="Tahoma"/>
              </a:rPr>
              <a:t>Trăsăturile morale ale personajulu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Deşi are calităţi umane deosebite, acestea nu sunt actualizate de la început, ci şi le descoperă prin intermediul probelor la care este supus: 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milostenia 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faţă de bătrâna cerşetoare), 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bunatatea, curajul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(întâlnirea cu roiul de albine şi cu nunta de furnici), 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onestitatea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(respectarea jurământului) si 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prietenia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/spiritul de tovărăşie (faţă de Gerilă, Flamânzilă, Setilă, Ochilă şi Păsări-Lăţi-Lungilă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38512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cluzi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3772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Arial"/>
              </a:rPr>
              <a:t>Harap-Alb r</a:t>
            </a:r>
            <a:r>
              <a:rPr b="1" lang="ro-RO" sz="3200" spc="-1" strike="noStrike">
                <a:solidFill>
                  <a:srgbClr val="ccff99"/>
                </a:solidFill>
                <a:latin typeface="Arial"/>
              </a:rPr>
              <a:t>eprezintă omul ideal, ale cărui calităţi sunt preţuite de popor.</a:t>
            </a:r>
            <a:r>
              <a:rPr b="1" lang="en-US" sz="3200" spc="-1" strike="noStrike">
                <a:solidFill>
                  <a:srgbClr val="ccff99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ccff99"/>
                </a:solidFill>
                <a:latin typeface="Arial"/>
              </a:rPr>
              <a:t>El rămâne la limita umanului, iar faptele care depăşesc limita realului sunt săvârşite de „adjuvanţii” săi, înzestraţi cu trăsături supranaturale.</a:t>
            </a:r>
            <a:r>
              <a:rPr b="1" lang="en-US" sz="3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ff99"/>
                </a:solidFill>
                <a:latin typeface="Arial"/>
              </a:rPr>
              <a:t>Harap-Alb întruchipează perfecţiunea, reprezentând un model de conduită morală, un exemplu bun de urm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215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2T15:56:51Z</dcterms:created>
  <dc:creator>birbi</dc:creator>
  <dc:description/>
  <dc:language>en-US</dc:language>
  <cp:lastModifiedBy>Profesor</cp:lastModifiedBy>
  <dcterms:modified xsi:type="dcterms:W3CDTF">2010-08-24T07:43:40Z</dcterms:modified>
  <cp:revision>13</cp:revision>
  <dc:subject/>
  <dc:title>Caracterizarea lui Harap-Alb</dc:title>
</cp:coreProperties>
</file>