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7612-B213-4F53-B687-4A19E42CC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DFDD-B3D5-4B4A-ABAB-CAF37BB7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C1052-64FA-4DD3-B7D7-6C80D176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19ED1-77A9-4FCD-8BAF-21F61214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EE6AE-8209-4DBC-B486-DAAA8F15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E7124-D62B-412B-BCCD-3F48A52F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06A40-0F37-4DEA-AE0E-8E9D0451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192E9-ED82-4C5E-8003-CFF0D2FD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D3D83-2CAF-4B0B-B748-CC24C609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602A2-AEAC-4C49-881B-BF5CEBFDC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C3202-404E-4220-AFC4-B6DBC30F8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79934-76F6-479B-830F-6E91AED4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A5BE-6466-49D7-99C5-A1FAA05B3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5C354-0B53-4D15-A924-A9516800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791F0-0B4D-4B70-8D87-4ADA6101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C1B11-4790-42AE-A5A8-1F80D0CD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AA646-5300-4419-8794-08F55309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901AD-BE4A-4A45-99AA-94DE4793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6A8C89-CF8F-44F9-BB35-27E81794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7243A1-E3A0-431D-BE75-1F15D88D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E221C-1094-45B1-BFDC-87A205C3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7FE85-0317-41EE-A091-4713AA11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214F0-C30B-4988-9708-680618004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B916-469B-49B9-ACD7-52E287687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A9D918-A2F5-4487-8EC9-811BFF852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03345E-1D35-4373-A249-8DABF544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2BC9EE-66F5-4B0E-8B48-ECBE72A7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69D8F9-F6BD-4A75-A5A0-3601C65E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A88359-33C0-448E-B65E-1AA38778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FBFE5-D5CB-4842-922A-7962A262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A8F74A-CC62-4FBA-AEE9-8E4FE912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4FECB-FD1A-4E5D-ADA2-DD4B1CAD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0498D5-5CD9-49A3-9AEB-D49AAFF9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2BE849-DC3A-4175-A0EF-BA3A4E05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B81A2-01B6-44BF-B168-FF16FC79C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0B0BB-4E35-4751-802F-CA52489D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6F650-7100-4250-980E-1A83B18FF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29DAE4-5AEC-4624-94F1-304B11CF7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B118D-935D-4B2C-BF7B-A7B8CF36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85E2E-B78D-4986-A3C9-E87EA365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2C5BE-EE21-480C-84C1-DD0FBCE2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C3B32-49CD-4410-B87B-73D44BCF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D3550-18B2-422E-A728-4925811B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4CAEF-46BD-4895-939E-BE9E3322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EDA9-AA7B-4DF8-8E0F-E7F528A3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D7FCF-BEB0-4E32-946C-57C4AB4D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7020D-B653-455C-B0C8-40C6AC82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C9B22-557B-4BDB-AA18-CE231B3F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75177-CA6B-4145-9216-D292989CD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04328-1D68-491E-B083-7115E275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0EE82-2426-48AD-AEE5-0D6B61830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F5106-889E-4D49-9E45-BA0CF4AE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FEEE0-7D81-4D75-A965-EE781CAF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87A91-B7E7-4A85-979E-D1BE5ECC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345D7-B865-4B65-B097-059051CE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EA60-753A-4F81-ADF7-B96494B4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02BBB-F9EE-4BC0-8ECA-64083EED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41F10-7B66-4FBA-9113-4B949723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32D4B-E87C-4729-8245-8E9196C7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142AB-9650-486A-98E7-F258C1D1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7C4F2-7857-4304-A1D7-D883B0FD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E0E66-EBF7-4301-9382-12840C9B4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87639-B474-444C-ADEA-9E707FFE8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B0F31-7026-481D-971E-A098673C7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649DF-60AF-493C-AE6B-AD74C7FE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2C0F8-F63B-4BC9-A82C-CAA64D6C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832E-C308-4763-8E0B-D82CA294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87526-4AA4-491D-BFE9-0EC72A7C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2187D-B460-4AF2-B4F6-400416A7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49426-E56B-4DDF-87B5-4693728A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168A9-E9DD-439D-A64F-C46C14B6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3DB2B-7A38-4185-8515-B16FD270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E487A-7B96-42CA-8094-5D22DEE0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A97DD-A013-4120-B665-CE1D80BE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48C65-BA85-407E-A581-6A16BB8A3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4B11D-D002-433A-B997-B2CB79A64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60305-3EE4-487F-BD81-29796D4E3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0BE0-9240-43A4-9F3C-B1CF8757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59BC2-92C4-4D1C-8311-EB431A3C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955DC-F98F-4852-A8D4-0DFDE2D9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92042-55C5-448B-B844-91AF34D7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59C44-B6C4-4611-A9BC-0C35270A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4E6C7-6D4C-4466-946A-C191C0FB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98334-2F5C-47B3-AD85-D6DD73FC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9B8D6-DE5F-415B-A0C4-568CABB9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55582-2A87-4888-A16E-B751756C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58F97-CA3D-44F2-915B-035DC991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D6733-7ABE-4C0D-AC44-A220A8A6F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1CB8-BDB2-4594-BD08-D7ED17FA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897A3-D1D3-4410-890A-848A23FAC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24EA9-D6F2-4259-B9AF-29A61917C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87048-CBF6-4A8F-B194-A1EB6B37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F36FB-F2A1-4AEB-A0F5-1D2FD09F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7CC1F-979C-46B9-846F-4C51512E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62278-CE35-419E-B088-BF36C7E1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20EF2-149D-49C9-BE4A-64F3C82A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C166F-CEC1-4C96-9869-84278A75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1B207-7B98-4841-BE44-CA982FC1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4C084-DEE9-454D-8CA5-F039FF76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B589-5341-477D-9E12-A8268DA6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07AE2-DD88-48DB-A925-B51C644D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90874-878E-4A4E-972D-9ADD1A9A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266F8-A087-4E0F-A627-C1E4C491D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B798-5A4F-47EC-93D4-C5D31E76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1D421-9F13-4E3A-884B-6B467409F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074CD-F082-47E1-85AF-50394DA9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C5E65-8A22-431E-9371-2D9D8D97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F2BAE-F420-4544-912F-C9CFDC9A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C83C5-3AF4-4DCD-9904-88D5BCD2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63D8-0079-4779-A971-6F453430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D7F65-AEA3-46FE-940D-242B4EFD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FE7E8-ADB1-4E75-9D2D-5E0941A8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7AE7F-290A-412A-A85A-709E07D2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89480-D5DE-489E-A77D-23772174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7948E-194C-477E-A03B-4135D6CB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257C5-D6BD-4F85-8DEF-2511141B1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C1A83-038F-4DB1-B871-B5334BEE8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B83A8-0042-4449-B864-70762D4C0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9B955-0650-412B-BFB0-6767FC45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FD31A-07B2-4503-8A53-69854DF5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F517-678D-46CF-B4CB-651A3E7A5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16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5C4A-AA21-4F9F-8C6E-9531513A58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66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7BAF-32F0-4713-8CC2-0560D02F6C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AC2A-8A1A-4F96-B0D6-CC2C6372A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0CFD-2695-4484-A70D-1BDABA839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3D63-7771-433B-B2FC-5AD5F1DF3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3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4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5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C45C-4646-45AF-B3B1-EAEC040766B9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69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172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75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78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1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22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22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22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23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PlaceHolder 2"/>
          <p:cNvSpPr>
            <a:spLocks noGrp="1"/>
          </p:cNvSpPr>
          <p:nvPr>
            <p:ph type="dt" idx="16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7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sldNum" idx="18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0C53-2389-4EFE-B967-F6FEB6487497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72" name="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279" name="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282" name="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285" name="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288" name="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29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EE2B-26F4-43AC-A860-6D928C3873E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73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901F-96C8-4281-B69C-2362804B576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Caracterizarea </a:t>
            </a:r>
            <a:r>
              <a:rPr b="1" lang="ro-RO" sz="4400" spc="-1" strike="noStrike">
                <a:solidFill>
                  <a:srgbClr val="a50021"/>
                </a:solidFill>
                <a:latin typeface="Tahoma"/>
              </a:rPr>
              <a:t>personajului</a:t>
            </a: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 Harap-Alb</a:t>
            </a: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400"/>
            </a:b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din basmul cult </a:t>
            </a:r>
            <a:r>
              <a:rPr b="1" i="1" lang="ro-RO" sz="3200" spc="-1" strike="noStrike">
                <a:solidFill>
                  <a:srgbClr val="ffffff"/>
                </a:solidFill>
                <a:latin typeface="Tahoma"/>
              </a:rPr>
              <a:t>Povestea lui Harap-Alb</a:t>
            </a: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 de Ion Creang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1904760"/>
            <a:ext cx="403848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603000" y="2854440"/>
            <a:ext cx="450036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Personaj principal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Personaj eponim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Personaj pozitiv (întruchipează binel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4746600" y="2610000"/>
            <a:ext cx="4397400" cy="424800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a50021"/>
                </a:solidFill>
                <a:latin typeface="Tahoma"/>
              </a:rPr>
              <a:t>Modalităţi de caracteriza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ro-RO" sz="3200" spc="-1" strike="noStrike">
                <a:solidFill>
                  <a:srgbClr val="660033"/>
                </a:solidFill>
                <a:latin typeface="Tahoma"/>
              </a:rPr>
              <a:t>Caracterizare directă: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o-RO" sz="3200" spc="-1" strike="noStrike">
                <a:solidFill>
                  <a:srgbClr val="ffcc66"/>
                </a:solidFill>
                <a:latin typeface="Tahoma"/>
              </a:rPr>
              <a:t>de către narato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“</a:t>
            </a:r>
            <a:r>
              <a:rPr b="0" i="1" lang="it-IT" sz="2800" spc="-1" strike="noStrike">
                <a:solidFill>
                  <a:srgbClr val="ffffff"/>
                </a:solidFill>
                <a:latin typeface="Tahoma"/>
              </a:rPr>
              <a:t>Fiul craiului , boboc in felul sau la trebi de aieste”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o-RO" sz="3200" spc="-1" strike="noStrike">
                <a:solidFill>
                  <a:srgbClr val="ffcc66"/>
                </a:solidFill>
                <a:latin typeface="Tahoma"/>
              </a:rPr>
              <a:t>de către celelalte personaje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ro-RO" sz="2800" spc="-1" strike="noStrike">
                <a:solidFill>
                  <a:srgbClr val="ffffff"/>
                </a:solidFill>
                <a:latin typeface="Tahoma"/>
              </a:rPr>
              <a:t>Fii convins că nu eu, ci puterea milosteniei şi inima ta cea bună te ajută, Harap-Alb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i="1" lang="ro-RO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o-RO" sz="3200" spc="-1" strike="noStrike">
                <a:solidFill>
                  <a:srgbClr val="ffcc66"/>
                </a:solidFill>
                <a:latin typeface="Tahoma"/>
              </a:rPr>
              <a:t>autocaracteriz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660033"/>
                </a:solidFill>
                <a:latin typeface="Tahoma"/>
              </a:rPr>
              <a:t>2. Caracterizare indirectă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 – realizată prin </a:t>
            </a:r>
            <a:r>
              <a:rPr b="0" lang="ro-RO" sz="3200" spc="-1" strike="noStrike">
                <a:solidFill>
                  <a:srgbClr val="ffcc66"/>
                </a:solidFill>
                <a:latin typeface="Tahoma"/>
              </a:rPr>
              <a:t>fapte, limbaj, relaţiile cu celelalte personaje, nu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a50021"/>
                </a:solidFill>
                <a:latin typeface="Tahoma"/>
              </a:rPr>
              <a:t>Numele personajului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8f8f8"/>
                </a:solidFill>
                <a:latin typeface="Tahoma"/>
              </a:rPr>
              <a:t>La început, personajul nu este individualizat, fiind reperat prin sintagme precum 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ro-RO" sz="3200" spc="-1" strike="noStrike">
                <a:solidFill>
                  <a:srgbClr val="f8f8f8"/>
                </a:solidFill>
                <a:latin typeface="Tahoma"/>
              </a:rPr>
              <a:t>fiul cel mic al Craiului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”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Harap-Alb este numele pe care </a:t>
            </a:r>
            <a:r>
              <a:rPr b="0" lang="ro-RO" sz="3200" spc="-1" strike="noStrike">
                <a:solidFill>
                  <a:srgbClr val="f8f8f8"/>
                </a:solidFill>
                <a:latin typeface="Tahoma"/>
              </a:rPr>
              <a:t>i-l dă Spânul. Acest nume reprezintă un </a:t>
            </a:r>
            <a:r>
              <a:rPr b="0" lang="ro-RO" sz="3200" spc="-1" strike="noStrike" u="sng">
                <a:solidFill>
                  <a:srgbClr val="f8f8f8"/>
                </a:solidFill>
                <a:uFillTx/>
                <a:latin typeface="Tahoma"/>
              </a:rPr>
              <a:t>paradox</a:t>
            </a:r>
            <a:r>
              <a:rPr b="0" lang="ro-RO" sz="3200" spc="-1" strike="noStrike">
                <a:solidFill>
                  <a:srgbClr val="f8f8f8"/>
                </a:solidFill>
                <a:latin typeface="Tahoma"/>
              </a:rPr>
              <a:t>, constituind o </a:t>
            </a:r>
            <a:r>
              <a:rPr b="0" lang="ro-RO" sz="3200" spc="-1" strike="noStrike" u="sng">
                <a:solidFill>
                  <a:srgbClr val="f8f8f8"/>
                </a:solidFill>
                <a:uFillTx/>
                <a:latin typeface="Tahoma"/>
              </a:rPr>
              <a:t>structură oximoronică</a:t>
            </a:r>
            <a:r>
              <a:rPr b="0" lang="ro-RO" sz="3200" spc="-1" strike="noStrike">
                <a:solidFill>
                  <a:srgbClr val="f8f8f8"/>
                </a:solidFill>
                <a:latin typeface="Tahoma"/>
              </a:rPr>
              <a:t> (</a:t>
            </a:r>
            <a:r>
              <a:rPr b="1" i="1" lang="ro-RO" sz="3200" spc="-1" strike="noStrike">
                <a:solidFill>
                  <a:srgbClr val="f8f8f8"/>
                </a:solidFill>
                <a:latin typeface="Tahoma"/>
              </a:rPr>
              <a:t>Harap</a:t>
            </a:r>
            <a:r>
              <a:rPr b="1" lang="ro-RO" sz="3200" spc="-1" strike="noStrike">
                <a:solidFill>
                  <a:srgbClr val="f8f8f8"/>
                </a:solidFill>
                <a:latin typeface="Tahoma"/>
              </a:rPr>
              <a:t> = </a:t>
            </a:r>
            <a:r>
              <a:rPr b="1" i="1" lang="ro-RO" sz="3200" spc="-1" strike="noStrike">
                <a:solidFill>
                  <a:srgbClr val="f8f8f8"/>
                </a:solidFill>
                <a:latin typeface="Tahoma"/>
              </a:rPr>
              <a:t>rob</a:t>
            </a:r>
            <a:r>
              <a:rPr b="1" lang="ro-RO" sz="3200" spc="-1" strike="noStrike">
                <a:solidFill>
                  <a:srgbClr val="f8f8f8"/>
                </a:solidFill>
                <a:latin typeface="Tahoma"/>
              </a:rPr>
              <a:t>, </a:t>
            </a:r>
            <a:r>
              <a:rPr b="1" i="1" lang="ro-RO" sz="3200" spc="-1" strike="noStrike">
                <a:solidFill>
                  <a:srgbClr val="f8f8f8"/>
                </a:solidFill>
                <a:latin typeface="Tahoma"/>
              </a:rPr>
              <a:t>negru</a:t>
            </a:r>
            <a:r>
              <a:rPr b="0" i="1" lang="ro-RO" sz="32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ro-RO" sz="3200" spc="-1" strike="noStrike">
                <a:solidFill>
                  <a:srgbClr val="f8f8f8"/>
                </a:solidFill>
                <a:latin typeface="Tahoma"/>
              </a:rPr>
              <a:t>care simbolizează evoluţia personajului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a50021"/>
                </a:solidFill>
                <a:latin typeface="Arial Narrow"/>
              </a:rPr>
              <a:t>Statutul iniţial al personajului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Neiniţiat, lipsit de experienţa vieţii, inocent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308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Pentru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 a deveni 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î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mp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ă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rat, el trebuie s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ă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 treac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ă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 mai multe probe 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ş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i s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ă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 dovedeasc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ă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 o serie de calit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ăţ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i, 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î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ntre care  distingerea adev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ă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rului dincolo de aparen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ţ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e.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308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cc66"/>
                </a:solidFill>
                <a:latin typeface="Tahoma"/>
              </a:rPr>
              <a:t>Trăsăturile morale ale personajulu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Deşi are calităţi umane deosebite, acestea nu sunt actualizate de la început, ci şi le descoperă prin intermediul probelor la care este supus: 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milostenia 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faţă de bătrâna cerşetoare), 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bunatatea, curajul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(întâlnirea cu roiul de albine şi cu nunta de furnici), 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onestitatea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(respectarea jurământului) si 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prietenia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/spiritul de tovărăşie (faţă de Gerilă, Flamânzilă, Setilă, Ochilă şi Păsări-Lăţi-Lungilă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38512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cluzi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3772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Arial"/>
              </a:rPr>
              <a:t>Harap-Alb r</a:t>
            </a:r>
            <a:r>
              <a:rPr b="1" lang="ro-RO" sz="3200" spc="-1" strike="noStrike">
                <a:solidFill>
                  <a:srgbClr val="ccff99"/>
                </a:solidFill>
                <a:latin typeface="Arial"/>
              </a:rPr>
              <a:t>eprezintă omul ideal, ale cărui calităţi sunt preţuite de popor.</a:t>
            </a:r>
            <a:r>
              <a:rPr b="1" lang="en-US" sz="3200" spc="-1" strike="noStrike">
                <a:solidFill>
                  <a:srgbClr val="ccff99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ccff99"/>
                </a:solidFill>
                <a:latin typeface="Arial"/>
              </a:rPr>
              <a:t>El rămâne la limita umanului, iar faptele care depăşesc limita realului sunt săvârşite de „adjuvanţii” săi, înzestraţi cu trăsături supranaturale.</a:t>
            </a:r>
            <a:r>
              <a:rPr b="1" lang="en-US" sz="3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ff99"/>
                </a:solidFill>
                <a:latin typeface="Arial"/>
              </a:rPr>
              <a:t>Harap-Alb întruchipează perfecţiunea, reprezentând un model de conduită morală, un exemplu bun de urm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215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2T15:56:51Z</dcterms:created>
  <dc:creator>birbi</dc:creator>
  <dc:description/>
  <dc:language>en-US</dc:language>
  <cp:lastModifiedBy>Profesor</cp:lastModifiedBy>
  <dcterms:modified xsi:type="dcterms:W3CDTF">2010-08-24T07:43:40Z</dcterms:modified>
  <cp:revision>13</cp:revision>
  <dc:subject/>
  <dc:title>Caracterizarea lui Harap-Alb</dc:title>
</cp:coreProperties>
</file>