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E27-B962-4A62-AB73-89577AA4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6B4-E2C2-42CD-BE9F-58E79CD7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DF2C7-52C8-451C-B8F9-BD6105FF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CB676-F76B-46EA-AE39-1FC2EFA2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9D0AA-FF4E-4308-881C-DEEA4F3E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35229-2144-4B3A-8FF3-50C2C6A3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7AD91-CFE8-4AF6-86F1-5971952C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B0B9B-6242-4360-8BFB-CC5D3FE1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6ABC3-4D10-4EEE-9775-38F9D059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D7A45-0FE5-415D-932F-6AB8A3C9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624BD-5ED4-4A3D-891B-7E21F2ED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7BF9D-067B-4F42-AD55-1EBD3479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A2B-4B58-459A-91A0-E0734E1C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E94D9-6361-40F8-8102-0AEBC949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1556B-4B30-4677-AF27-AC6F1793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0AC69-930C-4478-85A5-850335EE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93B01-549B-45CB-98EF-5848F09C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9CFED-D0AA-4D59-B082-663C6A31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E85F9-8AEA-4065-910C-78C8760E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302B5-94D4-4108-9D8A-BD1D0250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7D732-3086-4925-B1B5-0ED70C5B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08941-1393-411D-A4CA-7FC0CC49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5C363-0B91-406F-A6E7-49572CC3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B8B-5DAA-4CDF-A741-5A44D6E7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EF6F5-EE80-46F4-8EE5-588427A3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2A826-177B-4E7E-AEE0-FAD66C18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9C24F-3F11-41A5-B478-956E3E3B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4383B-B762-4263-B8EB-3F2F79C2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382BB-5D63-4EB8-916D-CEE74D52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37B8F-E224-4449-A625-FB5B7E47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F6F7A-2380-4268-8C7E-F7AA9A83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52A16-481E-4037-A016-4A92A920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E1D51-191F-4573-B198-AF44BF46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E5E0E-C5B8-434F-AEC9-BDC92CD6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1C425-3BE0-443D-9B34-849172D2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4F323-6DD7-4BDF-93D2-BF1636AD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0FF78-B70B-484E-97E0-04CBDA28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92C9B-7BE7-4943-BAF0-5650C44B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21353-CF8B-4DA3-B16F-B8FF0C4A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1D997-BB08-4F69-A7CD-EBB226C8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8C9F9-E947-488E-A022-711E9C72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D955E-B956-45E1-B7EA-EDD19DE8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A65B3-B3DD-44A4-B7A6-FF696426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8500E-6C0B-4B7A-8C49-8C928DAB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DB7-00C8-4212-9D47-DD0566C5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E8731-5827-4ACF-81DF-425096D3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78E22-577A-4F26-B633-307867B8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F72FE-24E2-4323-A660-259EA615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94792-18B7-4B3B-AAFA-7AEB32F6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F6BBC-D455-4CEB-BB5E-FF192662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C9F37-C6D3-4460-B121-DBE9FD2E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9DA84-BF49-4786-BD0A-82D0FB32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9D32-B9E7-4963-AA77-EC41CF20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D8F8E-A633-4676-BDC4-431DE013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05A3A-0A68-4EA8-8F1E-FF0F6A7D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F3B-D249-40D4-A82F-A844EF78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986CE-3D85-4E77-8026-03FDABC9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E859-9A03-4D5A-B570-30961D41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BEDE-2970-451F-B6DA-024D5E18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FF87E-5D99-4585-BAB1-B6692A73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1C61A-19E3-4F23-9BF2-197825CB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87686-AFC9-4CC5-BBD2-B1BB85DB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C16ED-9B08-437C-9373-8E77A6A4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6756B-69CE-4695-8DCD-5A15DE49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C6BAA-94B5-40CE-A00D-EB69E9D8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AF137-6E61-40BD-8B3D-6CB68D21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644-688E-4577-9EF0-D5F6F579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F8F79-9E64-4F5C-BA1F-2BF427B0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7190D-1EAD-4D3B-BCD0-75C4410B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E46CC-F836-40D2-A891-B91D6EEE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C3EBF-1053-4249-AFB5-83A17B34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7A44B-2FEF-47F8-9140-3C324163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6E854-14CE-4509-9424-F20DFCFD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FB5A9-1858-4FBB-86B2-24E0AAD8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1DEAF-EE77-4294-89BB-637B7FF0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20A8A-F870-4F36-B108-01FE0127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19388-18B2-44FF-99C1-851D4341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064-C547-48E3-B9EB-7DE7DC75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72BA8-7C00-4815-AC59-03C071DB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652A5-E14C-4477-88E7-C311352B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BAEC3-D4BD-40B3-8B00-2C4B8FA8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AAD62-354D-4E8A-9ED5-CE4CC8FE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2E907-9168-4718-9392-E9BF3722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E3EB0-D399-436C-ABDD-AD61459C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6C71A-AFD8-40B8-A980-608E96A4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E9D8E-B094-4B3B-8274-3B9E9DD3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2BAEC-715E-4955-A0E6-2F141580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2329C-E3E9-400A-9A70-23A4ECCA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583-40B7-4985-9351-930ECF51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C2A62-A079-41FA-A5DD-1E39EBAB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0BD76-85F2-40A9-80B7-5ECA7841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16F5A-6916-4836-A4E8-A34156A9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036EC-A15D-492E-9036-CCAEDECC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02764-93A1-4000-8905-EB490EEE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81334-9921-43ED-A1BE-BCA377BD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A2A13-A8BE-4B60-8236-12336796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C4D6A-46C7-47A5-AC62-C178A4CB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AA801-3FFD-4860-A4FF-5B0DF44D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212C5-56F0-4062-AC02-BE7C7BD7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0EE-3742-4A40-8E01-24B410EC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08EDB-96D0-4EB3-A4F9-5998F2A0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B8277-4052-49AA-8A46-826CB3A6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90C87-21BC-4509-84CE-295D9EB2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B86-0E39-450F-88BF-D46B02C3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CB3A4-7AF0-4965-9566-BDB4B3DA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0D1B9-4A96-498E-8CAE-54F9295B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72A29-AB91-4517-8BC8-7127A305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00216-7B64-4B69-9C1F-CA90A1FD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B21D3-6F31-4EC7-8662-4B18409E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233-C81A-45A2-97CB-4811EE14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4DE51-17DF-4B7D-9136-0B216E7B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D110A-CD0C-41AB-91C2-A8DC80FE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64254-F121-4669-BA6B-C7922285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C8363-28D3-4EB9-86E2-30B89734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61706-CCD0-45CA-8A40-193844C7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E661F-36CD-41AD-9758-B0560F47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11655-F9F7-4503-BB36-3AD66D34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7B21F-6185-4F13-8B5C-51E1333C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746F0-BF13-45B4-897D-213E64BE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1584D-5643-4B24-90D0-FF475FEB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A342-8873-432F-AA28-51CBBE822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1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9879-5992-487E-AC6A-EF52581BEC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3C91-F0C5-46B7-A866-12BBC50BD6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31BD-7EA4-470D-9115-4F0D0092A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D5DA-F4BE-4229-B292-8A41439A0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536D-E572-4008-81E2-AAA137030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39AB-641A-43FE-8089-323ED36DA66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69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72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75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78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1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2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2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2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23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2"/>
          <p:cNvSpPr>
            <a:spLocks noGrp="1"/>
          </p:cNvSpPr>
          <p:nvPr>
            <p:ph type="dt" idx="16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7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8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B766-E74E-415F-8CE0-516985C2E1A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72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288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2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71E3-5964-4F8D-A6AB-7F9AD9F7D6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7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04D5-271F-4BC8-82E9-FA2A98D34E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Caracterizarea </a:t>
            </a:r>
            <a:r>
              <a:rPr b="1" lang="ro-RO" sz="4400" spc="-1" strike="noStrike">
                <a:solidFill>
                  <a:srgbClr val="a50021"/>
                </a:solidFill>
                <a:latin typeface="Tahoma"/>
              </a:rPr>
              <a:t>personajului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 Harap-Alb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din basmul cult </a:t>
            </a:r>
            <a:r>
              <a:rPr b="1" i="1" lang="ro-RO" sz="3200" spc="-1" strike="noStrike">
                <a:solidFill>
                  <a:srgbClr val="ffffff"/>
                </a:solidFill>
                <a:latin typeface="Tahoma"/>
              </a:rPr>
              <a:t>Povestea lui Harap-Alb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de Ion Creang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90476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03000" y="2854440"/>
            <a:ext cx="450036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principal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eponim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ersonaj pozitiv (întruchipează bine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4746600" y="2610000"/>
            <a:ext cx="4397400" cy="424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a50021"/>
                </a:solidFill>
                <a:latin typeface="Tahoma"/>
              </a:rPr>
              <a:t>Modalităţi de caracteriz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Caracterizare directă: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de către narat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“</a:t>
            </a:r>
            <a:r>
              <a:rPr b="0" i="1" lang="it-IT" sz="2800" spc="-1" strike="noStrike">
                <a:solidFill>
                  <a:srgbClr val="ffffff"/>
                </a:solidFill>
                <a:latin typeface="Tahoma"/>
              </a:rPr>
              <a:t>Fiul craiului , boboc in felul sau la trebi de aieste”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de către celelalte personaj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ro-RO" sz="2800" spc="-1" strike="noStrike">
                <a:solidFill>
                  <a:srgbClr val="ffffff"/>
                </a:solidFill>
                <a:latin typeface="Tahoma"/>
              </a:rPr>
              <a:t>Fii convins că nu eu, ci puterea milosteniei şi inima ta cea bună te ajută, Harap-Alb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i="1" lang="ro-RO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autocaracteriz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0033"/>
                </a:solidFill>
                <a:latin typeface="Tahoma"/>
              </a:rPr>
              <a:t>2. Caracterizare indirectă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– realizată prin </a:t>
            </a:r>
            <a:r>
              <a:rPr b="0" lang="ro-RO" sz="3200" spc="-1" strike="noStrike">
                <a:solidFill>
                  <a:srgbClr val="ffcc66"/>
                </a:solidFill>
                <a:latin typeface="Tahoma"/>
              </a:rPr>
              <a:t>fapte, limbaj, relaţiile cu celelalte personaje, nu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a50021"/>
                </a:solidFill>
                <a:latin typeface="Tahoma"/>
              </a:rPr>
              <a:t>Numele personajulu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La început, personajul nu este individualizat, fiind reperat prin sintagme precum 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fiul cel mic al Craiului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”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arap-Alb este numele pe care 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i-l dă Spânul. Acest nume reprezintă un </a:t>
            </a:r>
            <a:r>
              <a:rPr b="0" lang="ro-RO" sz="3200" spc="-1" strike="noStrike" u="sng">
                <a:solidFill>
                  <a:srgbClr val="f8f8f8"/>
                </a:solidFill>
                <a:uFillTx/>
                <a:latin typeface="Tahoma"/>
              </a:rPr>
              <a:t>paradox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, constituind o </a:t>
            </a:r>
            <a:r>
              <a:rPr b="0" lang="ro-RO" sz="3200" spc="-1" strike="noStrike" u="sng">
                <a:solidFill>
                  <a:srgbClr val="f8f8f8"/>
                </a:solidFill>
                <a:uFillTx/>
                <a:latin typeface="Tahoma"/>
              </a:rPr>
              <a:t>structură oximoronică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 (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Harap</a:t>
            </a:r>
            <a:r>
              <a:rPr b="1" lang="ro-RO" sz="3200" spc="-1" strike="noStrike">
                <a:solidFill>
                  <a:srgbClr val="f8f8f8"/>
                </a:solidFill>
                <a:latin typeface="Tahoma"/>
              </a:rPr>
              <a:t> = 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rob</a:t>
            </a:r>
            <a:r>
              <a:rPr b="1" lang="ro-RO" sz="32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1" i="1" lang="ro-RO" sz="3200" spc="-1" strike="noStrike">
                <a:solidFill>
                  <a:srgbClr val="f8f8f8"/>
                </a:solidFill>
                <a:latin typeface="Tahoma"/>
              </a:rPr>
              <a:t>negru</a:t>
            </a:r>
            <a:r>
              <a:rPr b="0" i="1" lang="ro-RO" sz="32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ro-RO" sz="3200" spc="-1" strike="noStrike">
                <a:solidFill>
                  <a:srgbClr val="f8f8f8"/>
                </a:solidFill>
                <a:latin typeface="Tahoma"/>
              </a:rPr>
              <a:t>care simbolizează evoluţia personajului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a50021"/>
                </a:solidFill>
                <a:latin typeface="Arial Narrow"/>
              </a:rPr>
              <a:t>Statutul iniţial al personajului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Neiniţiat, lipsit de experienţa vieţii, inocent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Pentru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a deveni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î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mp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rat, el trebuie s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treac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mai multe probe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ş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i s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dovedeasc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 o serie de calit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ţ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i,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î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ntre care  distingerea adev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ă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rului dincolo de aparen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ţ</a:t>
            </a:r>
            <a:r>
              <a:rPr b="0" lang="it-IT" sz="4000" spc="-1" strike="noStrike">
                <a:solidFill>
                  <a:srgbClr val="000000"/>
                </a:solidFill>
                <a:latin typeface="Monotype Corsiva"/>
              </a:rPr>
              <a:t>e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66"/>
                </a:solidFill>
                <a:latin typeface="Tahoma"/>
              </a:rPr>
              <a:t>Trăsăturile morale ale personajulu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eşi are calităţi umane deosebite, acestea nu sunt actualizate de la început, ci şi le descoperă prin intermediul probelor la care este supus: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milostenia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aţă de bătrâna cerşetoare),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bunatatea, curajul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(întâlnirea cu roiul de albine şi cu nunta de furnici),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onestitatea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(respectarea jurământului) si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rietenia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/spiritul de tovărăşie (faţă de Gerilă, Flamânzilă, Setilă, Ochilă şi Păsări-Lăţi-Lungil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851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z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77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Harap-Alb r</a:t>
            </a: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eprezintă omul ideal, ale cărui calităţi sunt preţuite de popor.</a:t>
            </a: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El rămâne la limita umanului, iar faptele care depăşesc limita realului sunt săvârşite de „adjuvanţii” săi, înzestraţi cu trăsături supranaturale.</a:t>
            </a: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ff99"/>
                </a:solidFill>
                <a:latin typeface="Arial"/>
              </a:rPr>
              <a:t>Harap-Alb întruchipează perfecţiunea, reprezentând un model de conduită morală, un exemplu bun de urm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215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5:56:51Z</dcterms:created>
  <dc:creator>birbi</dc:creator>
  <dc:description/>
  <dc:language>en-US</dc:language>
  <cp:lastModifiedBy>Profesor</cp:lastModifiedBy>
  <dcterms:modified xsi:type="dcterms:W3CDTF">2010-08-24T07:43:40Z</dcterms:modified>
  <cp:revision>13</cp:revision>
  <dc:subject/>
  <dc:title>Caracterizarea lui Harap-Alb</dc:title>
</cp:coreProperties>
</file>