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736-0CEE-4004-8F29-D7169E18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DEA-4D23-4AFE-B883-EC3117D7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1772-7563-4339-B422-F2FDDC13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D9EB-DF0A-40E3-AB2C-7C0BA789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E4B5-FB01-47BD-88C5-2EC9937B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2D5-895D-4B38-9456-40C89890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743C-DE1F-460C-85AD-F4A57A94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25AB-5280-4D0F-9440-E9CC88EC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E7F-19C1-434B-B253-20D218BF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FD9-20F8-4D2C-9AE5-A830919F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493-090B-4289-A24E-147FE642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D62E-330C-4F56-AEC5-6B8E471A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98DE-48A2-4ABA-AE6E-F9A16444CC75}" type="slidenum">
              <a:rPr b="0" lang="en-US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Calibri"/>
              </a:rPr>
              <a:t>LES VERBES “AVOIR “ et “ÊTRE”À L’INDICATIF  PRÉS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AVOIR               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J’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Tu 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/Elle  a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Nous  avo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Vous avez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s/ Elles  on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ÊT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Je sui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Tu 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/Elle  est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Nous somm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Vous êt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s /Elles  son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ez les proposi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360" y="1600200"/>
            <a:ext cx="899172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- Tu veux des fruits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- Non, j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veux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Cambria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fruits. J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’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aim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les fruit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Préfères- tu des jeux vidéo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Non, j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préfèr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92d050"/>
                </a:solidFill>
                <a:latin typeface="Cambria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jeux vidéo, j’accepte les B.D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8" name="Picture 2" descr="C:\Program Files\Microsoft Office\MEDIA\CAGCAT10\j0195384.wmf"/>
          <p:cNvPicPr/>
          <p:nvPr/>
        </p:nvPicPr>
        <p:blipFill>
          <a:blip r:embed="rId2"/>
          <a:stretch/>
        </p:blipFill>
        <p:spPr>
          <a:xfrm>
            <a:off x="6553080" y="27432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AVOI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Je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’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ai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s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l/Elle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Nous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vons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Vous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vez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ls/Elles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ont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ÊT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Je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sui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’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 /Ell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’est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Nou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somm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Vou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’êt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s/Ell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sont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" name="Picture 2" descr="C:\Program Files\Microsoft Office\MEDIA\CAGCAT10\j0157763.wmf"/>
          <p:cNvPicPr/>
          <p:nvPr/>
        </p:nvPicPr>
        <p:blipFill>
          <a:blip r:embed="rId1"/>
          <a:stretch/>
        </p:blipFill>
        <p:spPr>
          <a:xfrm>
            <a:off x="3581280" y="1600200"/>
            <a:ext cx="1795680" cy="181116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7" descr=""/>
          <p:cNvPicPr/>
          <p:nvPr/>
        </p:nvPicPr>
        <p:blipFill>
          <a:blip r:embed="rId2"/>
          <a:stretch/>
        </p:blipFill>
        <p:spPr>
          <a:xfrm>
            <a:off x="792000" y="103320"/>
            <a:ext cx="755352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alibri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Je  </a:t>
            </a:r>
            <a:r>
              <a:rPr b="0" i="1" lang="en-US" sz="3200" spc="-1" strike="noStrike">
                <a:solidFill>
                  <a:srgbClr val="ff0000"/>
                </a:solidFill>
                <a:latin typeface="Cambria"/>
              </a:rPr>
              <a:t>fai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du tenni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du vélo.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/Elle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t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de la gymnastique.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Nous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son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du ski.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Vou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te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de la pêch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s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ont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du patinag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524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3352680" y="2209680"/>
            <a:ext cx="118116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6172200" y="228600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5"/>
          <a:stretch/>
        </p:blipFill>
        <p:spPr>
          <a:xfrm>
            <a:off x="4419720" y="3352680"/>
            <a:ext cx="1285920" cy="60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6"/>
          <a:stretch/>
        </p:blipFill>
        <p:spPr>
          <a:xfrm>
            <a:off x="5181480" y="4038480"/>
            <a:ext cx="2362320" cy="1219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7"/>
          <a:stretch/>
        </p:blipFill>
        <p:spPr>
          <a:xfrm>
            <a:off x="2133720" y="5105520"/>
            <a:ext cx="1600200" cy="128592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9" descr=""/>
          <p:cNvPicPr/>
          <p:nvPr/>
        </p:nvPicPr>
        <p:blipFill>
          <a:blip r:embed="rId8"/>
          <a:stretch/>
        </p:blipFill>
        <p:spPr>
          <a:xfrm>
            <a:off x="3133800" y="317520"/>
            <a:ext cx="3309840" cy="12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Je </a:t>
            </a:r>
            <a:r>
              <a:rPr b="0" lang="en-US" sz="2800" spc="-1" strike="noStrike">
                <a:solidFill>
                  <a:srgbClr val="00b0f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ais </a:t>
            </a:r>
            <a:r>
              <a:rPr b="0" lang="en-US" sz="2800" spc="-1" strike="noStrike">
                <a:solidFill>
                  <a:srgbClr val="00b0f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cinéma.       /       Je 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ne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vais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cinema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as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au stade.          /        Tu 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ne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vas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stad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l /Elle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a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 au théâtre.      / Il 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ne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va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théâtr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Nous 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allons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ensemble au marché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Nous 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n’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llons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ensemble au marché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Vous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allez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 à gauche.       /        Vous 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n’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llez</a:t>
            </a:r>
            <a:r>
              <a:rPr b="0" lang="en-US" sz="28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pas</a:t>
            </a:r>
            <a:r>
              <a:rPr b="0" lang="en-US" sz="28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à gauch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ls/Elles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ont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à l’école.  /      Ils ne vont pas à l’écol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6" name="Picture 2" descr="C:\Program Files\Microsoft Office\MEDIA\CAGCAT10\j0186348.wmf"/>
          <p:cNvPicPr/>
          <p:nvPr/>
        </p:nvPicPr>
        <p:blipFill>
          <a:blip r:embed="rId2"/>
          <a:stretch/>
        </p:blipFill>
        <p:spPr>
          <a:xfrm>
            <a:off x="7162920" y="3048120"/>
            <a:ext cx="1288800" cy="18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shadoow</cp:lastModifiedBy>
  <dcterms:modified xsi:type="dcterms:W3CDTF">2009-10-28T18:19:47Z</dcterms:modified>
  <cp:revision>13</cp:revision>
  <dc:subject/>
  <dc:title>LES VERBES “AVOIR “ et “ÊTRE”À L’INDICATIF  PRÉSENT</dc:title>
</cp:coreProperties>
</file>