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F64-80A4-4B8C-A0C0-BD0B3FA3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D42-AE43-4528-B826-4310A5E1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FD5-4339-4ACD-AC68-9825B0B1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C19-B59D-4E3B-AF51-39242A6A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A49-8408-4786-968D-FF751270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BFE-8BAE-4E98-A860-774DBD0C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7DE-565C-4280-B79B-93B45412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926-D775-43C8-A884-6B572824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51F-9B3B-42FC-8F35-1D30C7AD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653-6896-4265-BA94-288FA11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892-A56B-4F39-AAB3-86514507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4B8-2921-4BC3-8C5B-2868136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FDBC-2CB9-4754-B147-DBBE28D154FD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Calibri"/>
              </a:rPr>
              <a:t>LES VERBES “AVOIR “ et “ÊTRE”À L’INDICATIF  PRÉS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 av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/ Elles  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Je sui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Tu 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/Elle 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Nous somm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Vous êt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Ils /Elles  so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ez les proposi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Tu veux des fruits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- 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veux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fruits.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im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les frui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réfères- tu des jeux vidéo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n, j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préfèr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Cambria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jeux vidéo, j’accepte les B.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Picture 2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553080" y="27432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AVOI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ai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/Elle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on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Vou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avez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ls/Elles 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’ont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ui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es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mm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’êt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sont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pa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Picture 2" descr="C:\Program Files\Microsoft Office\MEDIA\CAGCAT10\j0157763.wmf"/>
          <p:cNvPicPr/>
          <p:nvPr/>
        </p:nvPicPr>
        <p:blipFill>
          <a:blip r:embed="rId1"/>
          <a:stretch/>
        </p:blipFill>
        <p:spPr>
          <a:xfrm>
            <a:off x="3581280" y="1600200"/>
            <a:ext cx="1795680" cy="1811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7" descr=""/>
          <p:cNvPicPr/>
          <p:nvPr/>
        </p:nvPicPr>
        <p:blipFill>
          <a:blip r:embed="rId2"/>
          <a:stretch/>
        </p:blipFill>
        <p:spPr>
          <a:xfrm>
            <a:off x="792000" y="103320"/>
            <a:ext cx="75535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e  </a:t>
            </a:r>
            <a:r>
              <a:rPr b="0" i="1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tenn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vélo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/Elle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e la gymnastique.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son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u ski.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aite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e la pêch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ls 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fon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du patinag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11811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128592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5181480" y="4038480"/>
            <a:ext cx="2362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7"/>
          <a:stretch/>
        </p:blipFill>
        <p:spPr>
          <a:xfrm>
            <a:off x="2133720" y="5105520"/>
            <a:ext cx="160020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8"/>
          <a:stretch/>
        </p:blipFill>
        <p:spPr>
          <a:xfrm>
            <a:off x="3133800" y="317520"/>
            <a:ext cx="330984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Je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is </a:t>
            </a:r>
            <a:r>
              <a:rPr b="0" lang="en-US" sz="2800" spc="-1" strike="noStrike">
                <a:solidFill>
                  <a:srgbClr val="00b0f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éma.       /       Je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i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cinema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u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 stade.          /        Tu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s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stad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 /Elle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au théâtre.      / Il 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ne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</a:t>
            </a:r>
            <a:r>
              <a:rPr b="0" i="1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 théâtr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ons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 pas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nsemble au marché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ou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 à gauche.       /        Vous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n’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ez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mbria"/>
              </a:rPr>
              <a:t>pas</a:t>
            </a: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à gauch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ls/Elles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von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à l’école.  /      Ils ne vont pas à l’éco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62920" y="30481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hadoow</cp:lastModifiedBy>
  <dcterms:modified xsi:type="dcterms:W3CDTF">2009-10-28T18:19:47Z</dcterms:modified>
  <cp:revision>13</cp:revision>
  <dc:subject/>
  <dc:title>LES VERBES “AVOIR “ et “ÊTRE”À L’INDICATIF  PRÉSENT</dc:title>
</cp:coreProperties>
</file>