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A1D-0729-4ADE-BDDC-C68627A0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512-B53D-43D2-96C5-C2278E8F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BD5-168E-4AFA-9DFB-D9FEE120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E14-9326-4511-9C72-99D70055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B86-C826-4200-8B66-D3058073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EC3-40B9-4FFB-8550-F2514649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014-8F1E-4FE3-B29F-225D5E13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98A-7623-49A6-A6D0-3B15627A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2FB-4BE5-4A86-A70D-B1227C6A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B5C-FED2-45C3-9EF5-8E7904AA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585-3EAF-4943-9C4C-4BA73B07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3AF-557E-4E15-98BC-2246FCB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F2C3-E66D-458F-97DE-168F4A7B4EE8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LES VERBES “AVOIR “ et “ÊTRE”À L’INDICATIF  PRÉS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         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 av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/ Elles  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e sui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somm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êt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 /Elles  s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ez les proposi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Tu veux des fruits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veux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fruits.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im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les frui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Préfères- tu des jeux vidéo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préfèr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jeux vidéo, j’accepte les B.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" name="Picture 2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6553080" y="27432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ai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/Ell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on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V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ez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s/Elle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ont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ui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mm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êt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n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" name="Picture 2" descr="C:\Program Files\Microsoft Office\MEDIA\CAGCAT10\j0157763.wmf"/>
          <p:cNvPicPr/>
          <p:nvPr/>
        </p:nvPicPr>
        <p:blipFill>
          <a:blip r:embed="rId1"/>
          <a:stretch/>
        </p:blipFill>
        <p:spPr>
          <a:xfrm>
            <a:off x="3581280" y="1600200"/>
            <a:ext cx="1795680" cy="18111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7" descr=""/>
          <p:cNvPicPr/>
          <p:nvPr/>
        </p:nvPicPr>
        <p:blipFill>
          <a:blip r:embed="rId2"/>
          <a:stretch/>
        </p:blipFill>
        <p:spPr>
          <a:xfrm>
            <a:off x="792000" y="103320"/>
            <a:ext cx="75535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i="1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tenn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vélo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/Ell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e la gymnastique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on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ski.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e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e la pêch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patinag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3352680" y="2209680"/>
            <a:ext cx="11811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6"/>
          <a:stretch/>
        </p:blipFill>
        <p:spPr>
          <a:xfrm>
            <a:off x="5181480" y="4038480"/>
            <a:ext cx="2362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7"/>
          <a:stretch/>
        </p:blipFill>
        <p:spPr>
          <a:xfrm>
            <a:off x="2133720" y="5105520"/>
            <a:ext cx="160020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8"/>
          <a:stretch/>
        </p:blipFill>
        <p:spPr>
          <a:xfrm>
            <a:off x="3133800" y="317520"/>
            <a:ext cx="330984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is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éma.       /       Je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i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ema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 stade.          /        Tu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stad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au théâtre.      / Il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théâtr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à gauche.       /        V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pas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à gauch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on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à l’école.  /      Ils ne vont pas à l’éco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6" name="Picture 2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7162920" y="30481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hadoow</cp:lastModifiedBy>
  <dcterms:modified xsi:type="dcterms:W3CDTF">2009-10-28T18:19:47Z</dcterms:modified>
  <cp:revision>13</cp:revision>
  <dc:subject/>
  <dc:title>LES VERBES “AVOIR “ et “ÊTRE”À L’INDICATIF  PRÉSENT</dc:title>
</cp:coreProperties>
</file>