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94085-4EEE-42E4-BF13-612DC09CD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C219E-CC5F-439A-9529-E873A2BD5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BD9BC-7B73-4D46-A1AA-78B69E5D1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FC80E-135B-4B61-95EA-E5DA3A748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78261-0E15-4046-9F49-17353134F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9BFBE-D012-4F36-B76F-A8D334073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D9FA9-7C7C-47B7-B8CB-FFE5B191A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F0565-EC94-4065-A388-8E2C3BCC1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DC844-6227-42A0-9BC7-E9A63C10D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1FBD-EA82-45F4-AD7C-F6C2CB0D0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396AA-8F3D-4E24-A753-7FD953EF6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9481-2F09-4225-91E9-CC34DE6E9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5C4D-B6E1-4E2C-A02D-47894BFE3D23}"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b050"/>
                </a:solidFill>
                <a:latin typeface="Arial"/>
              </a:rPr>
              <a:t>JOCURILE PREFERATE ÎN COPILĂRIE</a:t>
            </a:r>
            <a:endParaRPr b="0" lang="en-US" sz="4400" spc="-1" strike="noStrike">
              <a:solidFill>
                <a:srgbClr val="000000"/>
              </a:solidFill>
              <a:latin typeface="Arial"/>
            </a:endParaRPr>
          </a:p>
        </p:txBody>
      </p:sp>
      <p:sp>
        <p:nvSpPr>
          <p:cNvPr id="51" name=""/>
          <p:cNvSpPr txBox="1"/>
          <p:nvPr/>
        </p:nvSpPr>
        <p:spPr>
          <a:xfrm>
            <a:off x="457200" y="1676160"/>
            <a:ext cx="5029200" cy="147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LAJ IMAG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3"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5"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user</cp:lastModifiedBy>
  <dcterms:modified xsi:type="dcterms:W3CDTF">2010-08-23T06:46: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