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00233-BFA9-41D1-A1FA-58F138396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ECF29-27A9-4C22-BC72-3E01E8732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2EB86-6C27-432F-B3B8-4F8FC8722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36702-79B5-4D48-AECA-06EC71568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7F61E-7614-46D0-9ACB-EAA45C6E9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4C8B2-E177-4B9C-A48F-A77AB4F05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7FC0A-D335-469F-B3F0-67F4567C9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FF27B-F5AE-494D-9A4A-8ACE753FA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316B2-429E-4F9E-AB23-E498353FB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4E6DA-A6F2-4B50-ACD4-22FA6ADE2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00C42-F018-492E-AF06-F9FD232AE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F444F-F4DE-4904-8BD0-C0F260050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01235-87B8-4B78-A94C-5560D4FD05B4}"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4190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IMAG</a:t>
            </a:r>
            <a:endParaRPr b="0" lang="en-US" sz="4400" spc="-1" strike="noStrike">
              <a:solidFill>
                <a:srgbClr val="000000"/>
              </a:solidFill>
              <a:latin typeface="Arial"/>
            </a:endParaRPr>
          </a:p>
        </p:txBody>
      </p:sp>
      <p:grpSp>
        <p:nvGrpSpPr>
          <p:cNvPr id="42" name="Subtitlu 2"/>
          <p:cNvGrpSpPr/>
          <p:nvPr/>
        </p:nvGrpSpPr>
        <p:grpSpPr>
          <a:xfrm>
            <a:off x="1352520" y="1200240"/>
            <a:ext cx="6438960" cy="1792080"/>
            <a:chOff x="1352520" y="1200240"/>
            <a:chExt cx="6438960" cy="1792080"/>
          </a:xfrm>
        </p:grpSpPr>
        <p:pic>
          <p:nvPicPr>
            <p:cNvPr id="43" name="Subtitlu 2" descr=""/>
            <p:cNvPicPr/>
            <p:nvPr/>
          </p:nvPicPr>
          <p:blipFill>
            <a:blip r:embed="rId1"/>
            <a:stretch/>
          </p:blipFill>
          <p:spPr>
            <a:xfrm>
              <a:off x="1352520" y="1200240"/>
              <a:ext cx="6438960" cy="1792080"/>
            </a:xfrm>
            <a:prstGeom prst="rect">
              <a:avLst/>
            </a:prstGeom>
            <a:ln w="0">
              <a:noFill/>
            </a:ln>
          </p:spPr>
        </p:pic>
        <p:sp>
          <p:nvSpPr>
            <p:cNvPr id="44" name=""/>
            <p:cNvSpPr/>
            <p:nvPr/>
          </p:nvSpPr>
          <p:spPr>
            <a:xfrm>
              <a:off x="1371600" y="121932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262673"/>
                  </a:solidFill>
                  <a:latin typeface="comic"/>
                </a:rPr>
                <a:t>JOC ȘI JOACĂ</a:t>
              </a:r>
              <a:endParaRPr b="0" lang="en-US" sz="3600" spc="-1" strike="noStrike">
                <a:solidFill>
                  <a:srgbClr val="000000"/>
                </a:solidFill>
                <a:latin typeface="Arial"/>
              </a:endParaRPr>
            </a:p>
          </p:txBody>
        </p:sp>
      </p:grpSp>
      <p:pic>
        <p:nvPicPr>
          <p:cNvPr id="45" name="Imagine 3" descr=""/>
          <p:cNvPicPr/>
          <p:nvPr/>
        </p:nvPicPr>
        <p:blipFill>
          <a:blip r:embed="rId2"/>
          <a:stretch/>
        </p:blipFill>
        <p:spPr>
          <a:xfrm>
            <a:off x="3276720" y="3809880"/>
            <a:ext cx="2133360" cy="27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0000"/>
                </a:solidFill>
                <a:latin typeface="Arial"/>
              </a:rPr>
              <a:t>BUCURIILE COPILĂRIEI</a:t>
            </a:r>
            <a:endParaRPr b="0" lang="en-US" sz="4400" spc="-1" strike="noStrike">
              <a:solidFill>
                <a:srgbClr val="000000"/>
              </a:solidFill>
              <a:latin typeface="Arial"/>
            </a:endParaRPr>
          </a:p>
        </p:txBody>
      </p:sp>
      <p:sp>
        <p:nvSpPr>
          <p:cNvPr id="47" name=""/>
          <p:cNvSpPr txBox="1"/>
          <p:nvPr/>
        </p:nvSpPr>
        <p:spPr>
          <a:xfrm>
            <a:off x="457200" y="1219320"/>
            <a:ext cx="8229600" cy="4906800"/>
          </a:xfrm>
          <a:prstGeom prst="rect">
            <a:avLst/>
          </a:prstGeom>
          <a:noFill/>
          <a:ln w="0">
            <a:noFill/>
          </a:ln>
        </p:spPr>
        <p:txBody>
          <a:bodyPr anchor="t">
            <a:normAutofit fontScale="98000"/>
          </a:bodyPr>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Pentru mine, copilăria este vârsta fericită și lipsită de griji. Cât suntem copii, toate problemele noastre își găsesc soluțiile cu ajutorul adulților, care au un rol foarte important în formarea noastr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Cea mai mare bucurie a copilăriei este jocul. Prin joc, copilul învață să cunoască lumea din jurul său într-un mod plăcut. Plăcerea jocului este cu atât mai mare cu cât copilul imită adulții, ”joacă un rol” cu seriozitate, pregătindu-se astfel pentru viaț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De aceea, consider că jocul trebuie să rămână principala preocupare a copilului, să ocupe primul loc în rândul activităților pe care le desfășoară zi de zi (acasă, la grădiniță sau în cercul de priete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142640"/>
            <a:ext cx="800100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030a0"/>
                </a:solidFill>
                <a:latin typeface="Arial"/>
              </a:rPr>
              <a:t>FAMILIA ȘI ROLUL ACESTEIA ÎN FORMAREA VIITORULUI ADULT</a:t>
            </a:r>
            <a:endParaRPr b="0" lang="en-US" sz="4400" spc="-1" strike="noStrike">
              <a:solidFill>
                <a:srgbClr val="000000"/>
              </a:solidFill>
              <a:latin typeface="Arial"/>
            </a:endParaRPr>
          </a:p>
        </p:txBody>
      </p:sp>
      <p:sp>
        <p:nvSpPr>
          <p:cNvPr id="49" name=""/>
          <p:cNvSpPr txBox="1"/>
          <p:nvPr/>
        </p:nvSpPr>
        <p:spPr>
          <a:xfrm>
            <a:off x="1523880" y="2514600"/>
            <a:ext cx="6553440" cy="307800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Părinții sunt personajele cele mai importante din viața noastră,din copilărie și până la maturitate.</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Fiecare dintre noi este copilul cuiva, și acest lucru înseamnă că întotdeauna vom avea sentimentul siguranței atunci când suntem în dificultate, pentru că știm că cineva are grijă la noi.</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Religia promovează modelul familiei ca fiind o transpunere a divinității, părinții fiind ”îngerii” trimiși de Dumnezeu pe pământ  să ne ocrotească.</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Având implicații atât de profunde în plan spiritual, nu este de mirare că familia ocupă un loc central în toate acțiunile desfășurate în plan social, economic și politic. Familia devine astfel însuși nucleul societății. </a:t>
            </a:r>
            <a:endParaRPr b="0" lang="en-US" sz="1600" spc="-1" strike="noStrike">
              <a:solidFill>
                <a:srgbClr val="000000"/>
              </a:solidFill>
              <a:latin typeface="Arial"/>
            </a:endParaRPr>
          </a:p>
          <a:p>
            <a:pPr marL="281160" indent="-2811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281160"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esen scanat-famil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b050"/>
                </a:solidFill>
                <a:latin typeface="Arial"/>
              </a:rPr>
              <a:t>JOCURILE PREFERATE ÎN COPILĂRIE</a:t>
            </a:r>
            <a:endParaRPr b="0" lang="en-US" sz="4400" spc="-1" strike="noStrike">
              <a:solidFill>
                <a:srgbClr val="000000"/>
              </a:solidFill>
              <a:latin typeface="Arial"/>
            </a:endParaRPr>
          </a:p>
        </p:txBody>
      </p:sp>
      <p:sp>
        <p:nvSpPr>
          <p:cNvPr id="51" name=""/>
          <p:cNvSpPr txBox="1"/>
          <p:nvPr/>
        </p:nvSpPr>
        <p:spPr>
          <a:xfrm>
            <a:off x="457200" y="1676160"/>
            <a:ext cx="5029200" cy="147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OLAJ IMAGI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Arial"/>
              </a:rPr>
              <a:t>PRIETENII</a:t>
            </a:r>
            <a:endParaRPr b="0" lang="en-US" sz="4400" spc="-1" strike="noStrike">
              <a:solidFill>
                <a:srgbClr val="000000"/>
              </a:solidFill>
              <a:latin typeface="Arial"/>
            </a:endParaRPr>
          </a:p>
        </p:txBody>
      </p:sp>
      <p:sp>
        <p:nvSpPr>
          <p:cNvPr id="53" name=""/>
          <p:cNvSpPr txBox="1"/>
          <p:nvPr/>
        </p:nvSpPr>
        <p:spPr>
          <a:xfrm>
            <a:off x="609480" y="1676520"/>
            <a:ext cx="8229600" cy="4525920"/>
          </a:xfrm>
          <a:prstGeom prst="rect">
            <a:avLst/>
          </a:prstGeom>
          <a:noFill/>
          <a:ln w="0">
            <a:noFill/>
          </a:ln>
        </p:spPr>
        <p:txBody>
          <a:bodyPr anchor="t">
            <a:normAutofit/>
          </a:bodyPr>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SONDAJ DE OPINI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1. Cât de bine colaborezi cu colegii de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2. Crezi că ești respectat de toți membrii grupulu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3. Câți prieteni buni ai în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4. Cu câți dintre ei ai putea să lucrezi ca parte a unei echip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5. Există colegi în clasă cu care nu poți colabora într-o activitate sau cu care nu poți face schimb de opini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575d1"/>
                </a:solidFill>
                <a:latin typeface="Arial"/>
              </a:rPr>
              <a:t>BIBLIOGRAFIE</a:t>
            </a:r>
            <a:endParaRPr b="0" lang="en-US" sz="4400" spc="-1" strike="noStrike">
              <a:solidFill>
                <a:srgbClr val="000000"/>
              </a:solidFill>
              <a:latin typeface="Arial"/>
            </a:endParaRPr>
          </a:p>
        </p:txBody>
      </p:sp>
      <p:sp>
        <p:nvSpPr>
          <p:cNvPr id="55" name=""/>
          <p:cNvSpPr txBox="1"/>
          <p:nvPr/>
        </p:nvSpPr>
        <p:spPr>
          <a:xfrm>
            <a:off x="38088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storia literaturii române de la origini până în prezent, București, ed. Minerva, 198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on Creangă”, București, ed. Minerva, 197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06:16:33Z</dcterms:created>
  <dc:creator>Profesor</dc:creator>
  <dc:description/>
  <dc:language>en-US</dc:language>
  <cp:lastModifiedBy>user</cp:lastModifiedBy>
  <dcterms:modified xsi:type="dcterms:W3CDTF">2010-08-23T06:46:57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