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7CD9-AC67-42EA-AC86-149DD1B39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9FB8-4F33-4A84-A7B5-1CDF84D23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2DC8-31F1-4067-B1D2-C930418D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715-4277-4F02-AC03-E5EA74B5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03D2-BB54-43CE-8C24-E37ADF78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9DC-0750-4E76-94DE-EA77E221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AC6E-E396-4F2E-9CC6-58F83228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20A2-597E-4FBE-B7B0-8D05808F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0A5D-BC4A-4233-BDEE-55B97CD5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B2E7-E8DB-4602-AB88-97F25A11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4D61-A238-4510-8A56-CD5F61C0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455D-F62C-443A-8719-7EC88742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3E83-1F82-4152-AFD0-DB43D521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DDBD-8651-47F2-BCB7-146AB2C4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FE01-FFF8-430E-8383-D9DF7068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6869-178A-4D0F-9850-B2E20ACE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EBAF-CBB7-4B41-86EA-78E2010D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6F3D-3DB3-48E9-BC34-E5842F9C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7C3B-C475-452A-B8EF-51459AB6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BCED5-F144-40EA-8241-B7C3824E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4DB88-49C6-4243-8C33-834FE296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BE877-A5FE-4885-B583-476A25D4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8898D-05DA-4D9F-84FC-215E3465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84C8D-5F0F-4BBA-86F1-A13B6656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5A69-03B5-483E-998B-BBA91C98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50606-6897-4F23-A5F7-567BE7FD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6E14E-95E6-470A-A47C-5FE24E16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E8EA0-6837-4D39-BFD0-BCE4832C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E22F0-66A4-4876-8886-95D499C4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6ED7C-7634-4423-84B0-8F13F4B2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4EB0E-D917-4191-ACC7-8D78929A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B66FE-3BE7-4FE6-A562-B7397CA2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E0F7B-4338-43AF-A318-00909447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EFA62-3E3F-4032-9A77-B28341B3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BE7A7-1CAE-4EA7-8950-AFF6CF2D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100-3507-4E0A-AD0D-3E16E47F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0B834-C3E2-449E-AAE5-D373FAED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FD001-DFE4-4DA5-B70F-020CBCCF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824E5-9C35-40CD-AE97-4EFD16F8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7E24D-AAE7-4593-A561-5E539D44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5C4E8-ED44-4C67-9431-296A7285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9E919-DD0E-484D-887B-B00E94EB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ABEA5-1895-428C-91D7-4A68F6EC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8870A-182E-4EB2-B867-C43BB97B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DE261-A67B-40FD-9E4A-E7FBCB01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8206B-D5F0-4303-94A8-43F5CA24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5C3C-0E32-4F3D-80F7-F0B8E045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9B893-96DD-4BC0-AD43-4E1DFBDE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6FF3B-79CB-4D55-B87A-08614228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8A0F0-25CA-4691-BF61-C8F6896C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DFB9F-95F5-473E-A8AF-F80B9CB5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56ABB-719C-45D8-A8A9-1FF0193E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FBE18-4A58-499B-8AD6-88ADFFE2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2B87B-9A1A-40E9-859B-6658B248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D8B98-85CE-40F2-9E0A-466CDC42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36D58-CF4B-4624-9F89-C6AC77B2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CBEDA-160C-478B-BAD9-EC812002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C28-A728-4427-9FCE-099C9498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CC287-B6FF-4725-B4BF-D715711F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476E8-9CCE-41F4-8308-9F05CFE4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C25F9-8351-4FAC-9549-19F806CA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2BAE6-BB9B-4CE1-B979-F00798C4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3EF7C-2B31-4F01-A4CE-0466C76A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7C69E-3EF6-466F-9D5C-155C8A49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32355-4FFC-427D-8298-BEE907BB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FF655-DA12-4EFA-9877-45530DA4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2F3AE-0A55-48F9-9E20-56866779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4F897-305B-418D-8B5B-A95BA258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3B7E-4281-4BAD-9FAF-83E6A961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8FC4E-AE7A-4970-B6F9-9C4F9A33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5E943-AC05-4F18-BA3F-DBBF46F2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E1B3D-8295-4C7B-9D1B-2F342702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907D-9E28-4278-97D7-B558EA1B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D43-9582-4E21-AA53-09B41022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reptunghi rotunjit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Dreptunghi rotunjit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Dreptunghi rotunjit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BCA2-EDE8-4C53-8917-42EC14BA5C4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reptunghi rotunjit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Dreptunghi rotunjit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Dreptunghi rotunjit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ED68-E1CA-48B3-82ED-11BBAE0B0EA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reptunghi rotunjit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Dreptunghi rotunjit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Dreptunghi rotunjit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DD9C-49AE-481F-ADC6-D37F2A02087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reptunghi rotunjit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A26A-6A70-4090-A250-B4B64BE665D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reptunghi rotunjit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Dreptunghi cu un colţ rotunjit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5670-BBD7-403E-B6D9-98CF9F16E01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reptunghi rotunjit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Dreptunghi rotunjit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Dreptunghi rotunjit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279C-2B88-403D-A05F-D381A187F61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0160" y="329760"/>
            <a:ext cx="7170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Bookman Old Style"/>
              </a:rPr>
              <a:t>FIŞA DE LUCRU S–V–I (K–W–L)</a:t>
            </a:r>
            <a:br>
              <a:rPr sz="2400"/>
            </a:br>
            <a:r>
              <a:rPr b="1" lang="ro-RO" sz="2400" spc="-1" strike="noStrike">
                <a:solidFill>
                  <a:srgbClr val="006600"/>
                </a:solidFill>
                <a:latin typeface="Bookman Old Style"/>
              </a:rPr>
              <a:t>GRUPA …. / Lecţia ……………………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990720" y="2057400"/>
          <a:ext cx="7924680" cy="3889440"/>
        </p:xfrm>
        <a:graphic>
          <a:graphicData uri="http://schemas.openxmlformats.org/drawingml/2006/table">
            <a:tbl>
              <a:tblPr/>
              <a:tblGrid>
                <a:gridCol w="2473200"/>
                <a:gridCol w="2438280"/>
                <a:gridCol w="3013200"/>
              </a:tblGrid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7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Ce …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1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ŞTIU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7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Ce …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1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VREAU SĂ ŞTIU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7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Ce …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1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ÎNVĂŢ/AM ÎNVĂŢA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Rectangle 18"/>
          <p:cNvSpPr/>
          <p:nvPr/>
        </p:nvSpPr>
        <p:spPr>
          <a:xfrm>
            <a:off x="609480" y="160020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6600cc"/>
                </a:solidFill>
                <a:latin typeface="Comic Sans MS"/>
              </a:rPr>
              <a:t>1.   Diagrama (Graficu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dica Dromereschi</dc:creator>
  <dc:description/>
  <dc:language>en-US</dc:language>
  <cp:lastModifiedBy>user</cp:lastModifiedBy>
  <dcterms:modified xsi:type="dcterms:W3CDTF">2010-08-23T07:55:5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