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2478-D8FA-49E0-939E-1BE58F18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FB23-10BB-40D3-9143-235ABFAD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716-4E21-4F28-9558-DA0BF64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99A-0A67-407A-B16D-D1A01ACF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120-DD9B-406A-82A9-B05961F6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2AD-E8AD-4A06-B804-7F30EC58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4844-A850-40AC-97A2-916D3068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C935-307C-45F3-AF6F-016DD36E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3A93-2085-4E8D-B2FC-AF28BB4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9D77-80A8-4B92-8F4C-B708994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5290-A386-4B13-9F63-E6271095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2420-812B-4216-AA71-08FA107F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8082-8BF6-4484-8CF6-5F916A7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C0B-7501-40D1-AA2F-E6C2CC20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E4D0-0871-455B-9D0D-A3B4293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BF48-36DF-45C4-9F15-E8259F8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9785-7547-410D-B5FE-9D5161D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E918-E0E2-40BA-A283-6AD6BCFE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B5D5-A468-4B29-BAB1-8F9EC31F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DD5C-5BF7-4127-A7E8-46A97BCF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9DEF-B4C9-4532-8E23-E36D8330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DA7A-AEBA-439A-8253-5FD46BC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88A6-8C5F-4C3C-828C-938FD211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E8AF-BCEA-449D-849F-ED7FD16F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5F9-7102-4EC2-9F45-68950DE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5A360-B1D3-4472-9A97-721459A0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2B68-5A3A-4FF1-84D9-F494B25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7935-CD02-4CAE-8B4D-845DCA25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935E-6678-4B77-8A54-062578A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D7F8-FB83-486B-9986-8767B85E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51F1-023A-439A-A452-F504E04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F4FF-6D30-4D0B-9431-BD349FC5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F96D-54E7-41E9-8DC8-976218ED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508B-D5AC-4151-94E5-3334698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9577E-9003-4DF8-A4A0-F4BB63E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C35-96DA-40D7-B9E6-5A578C7C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8679-255A-47A6-8487-A91C8F2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5420-2FB5-41B3-8F90-27E8577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48EFD-D475-4980-A1AB-DCC9E98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A724-5132-4855-85A3-D492AE92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4365-EE50-4F72-AB77-98E10D1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4B0D-7729-4457-A0F6-090ED7A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518B-75F9-4416-B814-B2798ED6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33CB-CF6D-496B-BB7D-5AFA5C7F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838A-77DC-47A3-B50C-39F5185F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193F-CBBB-453A-9FD9-8027E6C7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C15-EECE-4A45-92AA-CE4680B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0713-5D14-4999-826F-ABF6116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5A34-1CA2-403F-BFB7-5ECD45FF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F0C7-AF04-4DED-AA1E-8FA69B3D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528F5-C72B-4C2F-BBD2-395D18EC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1720-61CE-4A28-86D6-B718ED6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D26D-6468-4CCF-A519-881A5237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F475-5DB1-46AD-9A7D-1309652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4382B-E5FD-4AB8-A92D-2EAF219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EB20-04B3-4537-A9F9-10CE72A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7871B-01C0-44F3-A279-3C6EEF05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529-2FFF-4084-B496-CD79A37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3094-F6D1-4874-BDD2-ECAA6200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CF59-2703-4E4C-BDEE-17AB7BA0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D566-8E8B-437B-94F8-C1D765B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25D7-B5F1-434A-953F-44712818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79B4-01E2-4D13-8C5C-8A9B3754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A206-0702-4104-B436-BCE6BF1F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870A-B542-488E-9CB9-8172234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B6D6-C4C8-464D-9872-18CB6E8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B8BA-15BC-4D78-AEE6-853C88D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B57E-E8A3-4D0E-9757-5B64CC8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687-B831-4E9E-A257-6F909CB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AD3C-2A64-4238-A961-3FB5D7B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F1C72-DA4D-411F-8105-428B33E9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7DD9-76E6-4922-A35E-3DA4FCEF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0E8-940E-4F50-AA63-3C734C0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65A-FDD4-4811-ACA9-9E2E59C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5D1B-A1B9-4F04-8556-2CE4781DFF1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1BCD-5D5A-4CE9-B0D2-EF9981A3B0C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515-C319-4363-8056-7206B861BD2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E26-3016-4466-ABA1-564DD4D15BF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4B12-581D-43C3-8967-F6053811581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081-FD28-4359-B894-9A76F775F4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29760"/>
            <a:ext cx="7170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FIŞA DE LUCRU S–V–I (K–W–L)</a:t>
            </a:r>
            <a:br>
              <a:rPr sz="2400"/>
            </a:b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GRUPA …. / Lecţia …………………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057400"/>
          <a:ext cx="7924680" cy="3889440"/>
        </p:xfrm>
        <a:graphic>
          <a:graphicData uri="http://schemas.openxmlformats.org/drawingml/2006/table">
            <a:tbl>
              <a:tblPr/>
              <a:tblGrid>
                <a:gridCol w="2473200"/>
                <a:gridCol w="2438280"/>
                <a:gridCol w="301320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VREAU SĂ 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8"/>
          <p:cNvSpPr/>
          <p:nvPr/>
        </p:nvSpPr>
        <p:spPr>
          <a:xfrm>
            <a:off x="609480" y="1600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00cc"/>
                </a:solidFill>
                <a:latin typeface="Comic Sans MS"/>
              </a:rPr>
              <a:t>1.   Diagrama (Graficu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ica Dromereschi</dc:creator>
  <dc:description/>
  <dc:language>en-US</dc:language>
  <cp:lastModifiedBy>user</cp:lastModifiedBy>
  <dcterms:modified xsi:type="dcterms:W3CDTF">2010-08-23T07:55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