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09BA-2A04-43D8-8EB2-C175F3CC0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2E75-E474-42E4-BA97-A2C9A86B1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48D2-E7C4-48EC-A485-4B6E40F0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7408-14C3-4025-9395-0BBB728A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78FD-B763-4276-817D-E2D428BD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A473-5BAA-4074-B4B2-73173BA2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4CB6-B1EA-4AD3-9AA5-5E0321C7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64D2-4B15-48F0-9067-9B74C78A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809C-7C08-426E-A090-485AAD43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AED5-8B30-4B6E-9EA5-C5EB75ED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BFDF-ED5B-4732-8F37-94D9E44F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2D8C-4C7E-4C4B-86E5-71594AA6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0D17-F8A5-49EE-A5EB-83CC65D5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26AD-4B63-4DC0-A0B5-DD3E27EC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31E6-26F8-4413-9533-47D080FE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653B-FBC0-4705-A96F-493AB6A0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5210-1CFE-483A-8AF9-C627C20D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0DB2-B787-409C-9C1C-075A8122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D697-E0F8-4BE7-AB37-052E3CFC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59334-406C-4E70-A553-6C841823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D57A2-ED18-4C36-BEEF-28AADF7A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85A46-95D0-4DE5-B914-9C043717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8A6E3-4540-49E8-AB06-DC64250C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D3936-309F-43E1-A5F6-630AF060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8CFD-9BFD-4C94-BF79-B4C9C9DD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CC675-6326-497A-83B4-8260F63A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8AD82-F87A-4E03-A011-1A40513B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9C65F-2D5C-43BB-9CAA-277A3F71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F8F55-92F3-4F33-A7DC-311990E8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0E07D-4A29-4448-9B7C-5E74DC22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AD509-4BE5-4D90-BE81-9ADFA1EB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CBA0C-7F3A-4350-89CD-C17EDC0B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9110B-F99B-45A8-97C8-7A32D6FF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71A6C-C9FE-4B15-A2CD-2EB432B6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2552E-817F-42B7-9806-D0BDC3D3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D5CD-2CFA-4F6A-9AB9-1F565311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2F813-37BC-4398-9023-C683D96B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E609C-CBC1-4CED-9B11-AF03591B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863EE-3212-4FC9-AE5C-3C4E5EB8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C19F7-1EE4-42F3-A019-FC47DD2B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66B45-FC4D-4E91-8932-E7548F23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F9418-11DB-46BB-AAA1-2C82FB26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CEB67-6DB2-41A8-B341-930661EC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22A91-9FCA-4023-B0D9-855DD591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D89B1-A95F-41B2-9048-4B424B17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51DE0-EFAD-4BF2-9168-C2B2E31F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26EA-4EBF-4983-A584-01B27466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6944F-B707-40EA-979F-4E30F49F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67478-B235-4AD0-B740-510A2F97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F8743-6B0A-4BF4-BB68-51FBD571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75EBD-CDDD-4119-B4DD-E60B1C5C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6132D-0C50-4603-951E-4993F15D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833F2-DF41-4D99-A77A-0F36AF53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D3E7C-A6C3-48A0-A3DA-2B8AA366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668C4-6FFA-436B-AAA0-006F982C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D6DCA-8676-4AC5-8F75-3DCBBC26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17192-7FDB-48A3-8ACE-8BE5522F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C1B2-3DBC-4515-A757-9A3C9DA2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77E21-F06F-49E8-9963-FB4398A6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A6A7C-6ED5-492C-AA2F-CC5EB7CC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14314-0A91-432A-9ED2-204DF183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3B42C-7C4A-42AA-AFBB-0C169E28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14745-1BBF-4942-AC1E-E88D9366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354EA-A3C5-42E5-8C71-5E7EFBEB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4FF06-D8F4-42D7-8509-03AAD0F0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7428F-F08C-4B57-8467-799510FB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A0642-D4EB-464F-9A78-B871C4FD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D324B-946A-4D28-A777-01049F41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9DD8-11AC-4DC2-9F70-E243DFD4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B6534-5553-48DF-8540-D52A358F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B38B9-8D70-49C1-9A96-84A61095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3FC82-2141-4256-B298-F14E7BDD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CDF2-A133-4837-9D60-4A61A5C8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9886-30B6-4724-903B-89A9A3CB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reptunghi rotunjit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Dreptunghi rotunjit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Dreptunghi rotunjit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14D2-6FCD-411F-A875-D4C80B0CA6A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reptunghi rotunjit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Dreptunghi rotunjit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Dreptunghi rotunjit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4D65-57B9-425F-8112-21716EF5A1B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reptunghi rotunjit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Dreptunghi rotunjit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Dreptunghi rotunjit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2F2A-C4A2-4529-8668-5406212808B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reptunghi rotunjit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82B7-A52C-41CA-AB67-B0EAC189F7D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reptunghi rotunjit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Dreptunghi cu un colţ rotunjit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600E-4126-452E-8E9C-EB49B2B9CCD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reptunghi rotunjit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Dreptunghi rotunjit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Dreptunghi rotunjit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832C-B9AB-41B1-AE31-2001CF8B792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0160" y="329760"/>
            <a:ext cx="7170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Bookman Old Style"/>
              </a:rPr>
              <a:t>FIŞA DE LUCRU S–V–I (K–W–L)</a:t>
            </a:r>
            <a:br>
              <a:rPr sz="2400"/>
            </a:br>
            <a:r>
              <a:rPr b="1" lang="ro-RO" sz="2400" spc="-1" strike="noStrike">
                <a:solidFill>
                  <a:srgbClr val="006600"/>
                </a:solidFill>
                <a:latin typeface="Bookman Old Style"/>
              </a:rPr>
              <a:t>GRUPA …. / Lecţia ……………………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990720" y="2057400"/>
          <a:ext cx="7924680" cy="3889440"/>
        </p:xfrm>
        <a:graphic>
          <a:graphicData uri="http://schemas.openxmlformats.org/drawingml/2006/table">
            <a:tbl>
              <a:tblPr/>
              <a:tblGrid>
                <a:gridCol w="2473200"/>
                <a:gridCol w="2438280"/>
                <a:gridCol w="3013200"/>
              </a:tblGrid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7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Ce …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1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ŞTIU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7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Ce …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1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VREAU SĂ ŞTIU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7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Ce …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1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ÎNVĂŢ/AM ÎNVĂŢA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Rectangle 18"/>
          <p:cNvSpPr/>
          <p:nvPr/>
        </p:nvSpPr>
        <p:spPr>
          <a:xfrm>
            <a:off x="609480" y="160020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6600cc"/>
                </a:solidFill>
                <a:latin typeface="Comic Sans MS"/>
              </a:rPr>
              <a:t>1.   Diagrama (Graficu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dica Dromereschi</dc:creator>
  <dc:description/>
  <dc:language>en-US</dc:language>
  <cp:lastModifiedBy>user</cp:lastModifiedBy>
  <dcterms:modified xsi:type="dcterms:W3CDTF">2010-08-23T07:55:5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