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8215-1E93-4C37-835F-613502C83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7D3D-C064-4B79-84AA-3D3331588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EBA-D367-485B-A0C8-9489FEEB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592-BEE5-43ED-B9D8-3D2E6D2B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E8F-8EAB-4129-949B-6746E525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76D-29D1-4986-A07C-20C46256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AB28-1812-49F8-AFCC-115FC332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30BB-46B2-4943-8FF1-2BEF36E1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B7EB-AC0C-4CB2-ACA2-3647816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C87-8547-45AA-B3E7-5C42B486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053E-4150-4C24-B4F3-17F4C840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5D90-EECC-4FE4-A8B6-737BC80B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388D-56FE-40F9-986F-EF8C5AE4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281-E8C5-4A81-8E79-860EA392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F774-0D66-4EA0-A11B-A2AF811E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739B-9DE9-418F-A79F-91B91E19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3CBB-7CB8-46BD-8BFC-1D65E703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5846-D62B-4DFC-AC4F-216707FD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C05C-3EE3-4770-B543-B210A5FC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507D-2FC8-4EA2-A5B8-D88C954B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5BC4-4905-4F2D-9FF0-320111EA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1743-A26D-4019-BF25-9E07E73A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D285-E4E9-465D-85CC-6D8585E4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D862-DB76-4785-91EE-F465D0BB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C83-427B-4665-B81D-AB3C42A6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90E2-050B-4AE8-8BAE-3A57181D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53866-722D-4E16-9595-53EBD47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3BDF7-F99F-434C-8562-D10DC35A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0361-2F3E-4230-BF28-10E25B85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B7DF-C570-4157-A9A6-C61A510B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E952-6423-46DF-99A0-DF08FED9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0068-EF36-41DC-B9ED-B9D5AB40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9AAD-50A6-45ED-B8DA-C642350E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99063-CF66-4B68-85A8-A3ECA122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10E1-0EDF-4D3A-8EBB-58CECD4B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7A4-7BA0-4A13-87AF-A7715C35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27A0-C0B3-405F-809F-83344A98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B586-1D69-4BC1-91F4-49C76BF9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B4FE-A814-45BF-96F7-7B222B79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2D3EB-3E34-4979-AA65-710F6BA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9201-9A73-4E49-BEB2-5D54FF3D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A16F-D32B-4E45-AED5-DD0505E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2EE3-4D3A-4B0D-9F6E-A9F79962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2C18-98BD-42CE-BC93-C57FEEA2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5531-F400-4BA3-BBF1-6C12F126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90B22-63E3-41CD-8D85-BEA3E885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EDE-BB04-46E2-8A35-33D796DD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9B7AA-060E-45DE-9C4B-A2F891A0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749B-C976-4FB2-8926-6864522A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8D12-1AC1-4835-BD90-84E6A31E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33CB9-914A-4437-B079-74D01942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260D-75AB-4A73-9B86-C7D7F208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0BB1-7EFA-43C7-AF09-8B24DA31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DD2A-F928-4824-BD14-36130B2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F8D57-E617-4A47-8592-9A861EDF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521F0-353D-4E2F-872E-5C888B9B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444D6-8D3B-4E86-B9C4-F98C7992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A84-DAE1-4994-BBF7-F78E8427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8F74F-469C-4A7D-892A-F457B32C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AF49-B4B8-4940-BA1F-7C57908E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CD72-8103-4BAE-A889-380E8E1C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9AA49-4B76-4166-AA7A-4EFBF4FF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B8840-A63A-4178-B302-1D3202A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70931-A19D-4265-9B0F-5392ED6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19B1-CF4D-4FC2-AC65-2F258C57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5081-4779-484D-A9CE-8A8672C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5CB30-3422-4ED5-B534-F00075B6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5DED6-8AE2-4786-AC9E-F59FBE3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F5C-D6B9-4E35-B9CE-5D203C4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B4089-5CED-4B99-84C4-FABEF6E2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2D519-C158-405D-8D9C-20E3E11B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601A6-7191-4C23-B239-4446EAE3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079-4926-4584-A24F-546787A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49B-4283-460A-8FBB-16AE0A22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C48E-0718-45B4-8B11-7FDFDD75EF5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Dreptunghi rotunjit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578E-7DCA-4965-9CE5-27E8CF41288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Dreptunghi rotunjit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2340-15CE-480B-B225-AA0D2DE6641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46B3-D35E-4176-8603-EF65018D202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Dreptunghi cu un colţ rotunjit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C2F4-F460-478A-8E55-E4EBCCABB28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BD8F-2571-4520-8B0D-27BBA89426B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329760"/>
            <a:ext cx="7170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FIŞA DE LUCRU S–V–I (K–W–L)</a:t>
            </a:r>
            <a:br>
              <a:rPr sz="2400"/>
            </a:b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GRUPA …. / Lecţia ……………………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057400"/>
          <a:ext cx="7924680" cy="3889440"/>
        </p:xfrm>
        <a:graphic>
          <a:graphicData uri="http://schemas.openxmlformats.org/drawingml/2006/table">
            <a:tbl>
              <a:tblPr/>
              <a:tblGrid>
                <a:gridCol w="2473200"/>
                <a:gridCol w="2438280"/>
                <a:gridCol w="301320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VREAU SĂ 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18"/>
          <p:cNvSpPr/>
          <p:nvPr/>
        </p:nvSpPr>
        <p:spPr>
          <a:xfrm>
            <a:off x="609480" y="16002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00cc"/>
                </a:solidFill>
                <a:latin typeface="Comic Sans MS"/>
              </a:rPr>
              <a:t>1.   Diagrama (Graficu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ica Dromereschi</dc:creator>
  <dc:description/>
  <dc:language>en-US</dc:language>
  <cp:lastModifiedBy>user</cp:lastModifiedBy>
  <dcterms:modified xsi:type="dcterms:W3CDTF">2010-08-23T07:55:5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