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77E07-B0A5-48E2-AAEB-C869555787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9DE95-E69A-4C1F-90A1-9D1EFF07D3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910EE-86AC-4CD3-B7C8-8CDBCA43B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AD769-7EBF-4423-9662-944BA2307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4710B-D733-47DD-9252-40E2BB780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3C3C0-8304-4779-BC6F-7C4391D47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CF4B5-BC68-49C1-A5AA-9E1BCEE7B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C580A-5192-47BF-A77E-22BA78D4E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9594D-E965-48D8-9CAA-6EE95EB33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B95E6-3AEB-4058-94DB-A1E4FBAA7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4C5C7-502A-41EA-9990-3E9582BBC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B10CA-5222-41E4-A472-8E236ED5B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1B56C-D923-42C5-8D04-032D60F5B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C3223-AC84-427D-B940-F610FB1DC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91011-D045-43AF-AFDD-DF1BC37CE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FD2D6-2EC4-4986-8657-8E2792006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E1027-10A8-4033-AC71-B6F248EF7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DFCC3-E4D2-43D3-ABDF-AE1692F5E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C51F1-8E18-4194-A239-4DE3B0A32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1F70B4-32C9-4779-9816-D9B292692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1F3834-3332-46B0-BC13-4136A4950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E4A3F6-0614-4AAB-9E85-B3F1C2B49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848238-695B-4EE0-A58C-A12BC05BA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E0C4D6-AB93-485D-B1D3-8BD35B6DB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FDEA9-FB70-4206-9609-1E2E5C51C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F15528-0D2A-4C29-81CF-2CA9F9F49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2C0768-E65C-4488-B85F-37324CA96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C261E3-35B2-40C1-AD1F-47EF919DB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DFE246-6224-4ACB-B220-99289C581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3DE05D-867E-4554-99F8-A573168A0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382F2B-6D7C-4A71-9F10-C76357E8D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F17D37-E2E1-4B1C-8534-C5719FA88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37B311-DCC5-463F-986F-77979A5E2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ADF3A7-902B-48B8-8FBD-DD5699904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ADC3BD-CDC6-4D38-8C29-B63CE7381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C53FC-B4B5-4BD2-8224-80D5FC908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D7CB0A-3393-4E68-9E98-B0A601A20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4D8193-382B-4519-B302-F351F2A6C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98E2D9-FA28-43F7-AB57-CDB9F7033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4C2FBC-8084-429F-BEE6-971216D0D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3129EF-F7CD-417C-98F1-7B2542AEE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2625CD-9410-4963-9392-7B51082B8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69F65E-C802-47D9-A713-53A4DA8C5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E6BEBD-39A0-4E56-B8E4-6600CFD4E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6D9F2E-BA79-404E-8CC5-0651A4A21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2A19AC-73CC-41CD-9226-FAAC1BC47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08FAD-627D-4BD0-9C01-D312E6630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0909D3-F5C5-4396-9F7E-DFA1014A1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D8A8BB-980C-4356-AADD-A090D159B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F84C87-4F18-4C56-A0AF-E584222BA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FFAFC6-F4DE-4482-80CB-736DD9B0B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1636D0-5C78-4839-8243-E480EB0C0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4D2446-735E-4F08-BA21-A9E5718A2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77F0A6-464F-4098-9829-68D79FF11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F95188-9F36-43B6-A67C-4B7AD0792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D67DBC-C19D-4527-8080-9B8599A12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206C08-A2C3-4FD6-B4A5-2899E967C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64915-E515-4198-AD4F-79780E6F5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4C9A6C-C4EF-4F04-B8CB-789784B26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C1BAF1-F401-4CD3-9304-160D47E6B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5DCC27-B5F5-4AF9-B105-AB2B95A2F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1D3F9C-7ED5-4B06-8086-63C3D6A25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405E9B-B157-4727-851B-469F2400F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02A14C-25FF-4579-9065-98EDE0D17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DDDB57-0A2F-491F-B270-79171B720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892AC6-B99D-48DF-BCD1-6643F88C8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0A8A64-2575-456B-8F7F-D93D20A42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04FDD8-2CEA-4474-8E18-7D085EE20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66CC3-F1F8-4CCC-AA4E-E74B3E0C9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80EC21-64EA-4AD3-9301-BFB72DCC6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4AD74B-C032-4C33-97A6-42E56AB14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30E24D-2158-4DBD-9385-198AA6F77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57862-46F1-413E-A0B4-ECE24AC28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0BD3C-00D1-4A02-9CD0-B648A14BF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Dreptunghi rotunjit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" name="Dreptunghi rotunjit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Dreptunghi rotunjit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98E83-E717-480A-9510-A5C72E84478C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Dreptunghi rotunjit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6" name="Dreptunghi rotunjit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Dreptunghi rotunjit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89191-354F-408B-992A-734FB77ADA7B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Dreptunghi rotunjit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1" name="Dreptunghi rotunjit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Dreptunghi rotunjit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2432A-FF77-4DE2-B52C-15FFA780D953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Dreptunghi rotunjit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E6127-76B1-4469-A3B4-16DA352BAFEA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Dreptunghi rotunjit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Dreptunghi cu un colţ rotunjit 10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35E7E-8134-4002-A00D-DB430518D12A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Dreptunghi rotunjit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21" name="Dreptunghi rotunjit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22" name="Dreptunghi rotunjit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9CEE0-E1C6-4516-81E2-166E567A4AD5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370160" y="329760"/>
            <a:ext cx="717048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6600"/>
                </a:solidFill>
                <a:latin typeface="Bookman Old Style"/>
              </a:rPr>
              <a:t>FIŞA DE LUCRU S–V–I (K–W–L)</a:t>
            </a:r>
            <a:br>
              <a:rPr sz="2400"/>
            </a:br>
            <a:r>
              <a:rPr b="1" lang="ro-RO" sz="2400" spc="-1" strike="noStrike">
                <a:solidFill>
                  <a:srgbClr val="006600"/>
                </a:solidFill>
                <a:latin typeface="Bookman Old Style"/>
              </a:rPr>
              <a:t>GRUPA …. / Lecţia ……………………</a:t>
            </a:r>
            <a:endParaRPr b="1" lang="en-US" sz="2400" spc="-1" strike="noStrike">
              <a:solidFill>
                <a:srgbClr val="ff8d3e"/>
              </a:solidFill>
              <a:latin typeface="Verdana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990720" y="2057400"/>
          <a:ext cx="7924680" cy="3889440"/>
        </p:xfrm>
        <a:graphic>
          <a:graphicData uri="http://schemas.openxmlformats.org/drawingml/2006/table">
            <a:tbl>
              <a:tblPr/>
              <a:tblGrid>
                <a:gridCol w="2473200"/>
                <a:gridCol w="2438280"/>
                <a:gridCol w="3013200"/>
              </a:tblGrid>
              <a:tr h="81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700" spc="-1" strike="noStrike">
                          <a:solidFill>
                            <a:srgbClr val="9f2936"/>
                          </a:solidFill>
                          <a:latin typeface="Verdana"/>
                        </a:rPr>
                        <a:t>Ce …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100" spc="-1" strike="noStrike">
                          <a:solidFill>
                            <a:srgbClr val="9f2936"/>
                          </a:solidFill>
                          <a:latin typeface="Verdana"/>
                        </a:rPr>
                        <a:t>ŞTIU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700" spc="-1" strike="noStrike">
                          <a:solidFill>
                            <a:srgbClr val="9f2936"/>
                          </a:solidFill>
                          <a:latin typeface="Verdana"/>
                        </a:rPr>
                        <a:t>Ce …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100" spc="-1" strike="noStrike">
                          <a:solidFill>
                            <a:srgbClr val="9f2936"/>
                          </a:solidFill>
                          <a:latin typeface="Verdana"/>
                        </a:rPr>
                        <a:t>VREAU SĂ ŞTIU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700" spc="-1" strike="noStrike">
                          <a:solidFill>
                            <a:srgbClr val="9f2936"/>
                          </a:solidFill>
                          <a:latin typeface="Verdana"/>
                        </a:rPr>
                        <a:t>Ce …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100" spc="-1" strike="noStrike">
                          <a:solidFill>
                            <a:srgbClr val="9f2936"/>
                          </a:solidFill>
                          <a:latin typeface="Verdana"/>
                        </a:rPr>
                        <a:t>ÎNVĂŢ/AM ÎNVĂŢAT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buClr>
                          <a:srgbClr val="000000"/>
                        </a:buClr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…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buClr>
                          <a:srgbClr val="000000"/>
                        </a:buClr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…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buClr>
                          <a:srgbClr val="000000"/>
                        </a:buClr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buClr>
                          <a:srgbClr val="000000"/>
                        </a:buClr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…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buClr>
                          <a:srgbClr val="000000"/>
                        </a:buClr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…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buClr>
                          <a:srgbClr val="000000"/>
                        </a:buClr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buClr>
                          <a:srgbClr val="000000"/>
                        </a:buClr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…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buClr>
                          <a:srgbClr val="000000"/>
                        </a:buClr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…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buClr>
                          <a:srgbClr val="000000"/>
                        </a:buClr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buClr>
                          <a:srgbClr val="000000"/>
                        </a:buClr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…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buClr>
                          <a:srgbClr val="000000"/>
                        </a:buClr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…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buClr>
                          <a:srgbClr val="000000"/>
                        </a:buClr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buClr>
                          <a:srgbClr val="000000"/>
                        </a:buClr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…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buClr>
                          <a:srgbClr val="000000"/>
                        </a:buClr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…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buClr>
                          <a:srgbClr val="000000"/>
                        </a:buClr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buClr>
                          <a:srgbClr val="000000"/>
                        </a:buClr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…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buClr>
                          <a:srgbClr val="000000"/>
                        </a:buClr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…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buClr>
                          <a:srgbClr val="000000"/>
                        </a:buClr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4" name="Rectangle 18"/>
          <p:cNvSpPr/>
          <p:nvPr/>
        </p:nvSpPr>
        <p:spPr>
          <a:xfrm>
            <a:off x="609480" y="1600200"/>
            <a:ext cx="335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6600cc"/>
                </a:solidFill>
                <a:latin typeface="Comic Sans MS"/>
              </a:rPr>
              <a:t>1.   Diagrama (Graficul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Rodica Dromereschi</dc:creator>
  <dc:description/>
  <dc:language>en-US</dc:language>
  <cp:lastModifiedBy>user</cp:lastModifiedBy>
  <dcterms:modified xsi:type="dcterms:W3CDTF">2010-08-23T07:55:56Z</dcterms:modified>
  <cp:revision>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