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A719-C87B-45E5-9564-5110AA0E1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2B3C-A0F7-40CA-AF43-CFA61F90D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6472-9F43-4E22-B204-8B593A80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5B97-49CD-4FDE-A824-FB217E10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4AB5-F03B-4C43-AFF7-3AB116ED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E192-49F9-4ED6-BA9E-B43417EA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55C1-9731-4065-9D4E-15240F55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7EEB-9B31-4FE8-AAA4-E5C11468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1AC4-82CE-4ACC-BC98-3271770B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FE71-B03F-4DB2-8234-5A34F2E1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969C-3B38-4B96-84F5-6DEBAEB7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7A2D-52C9-4F53-A4E8-B1FE160C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C1C0-6D5B-4B92-9531-30CB4870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D096-9917-4ECE-A245-A9F4B5A4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8F04-41FE-4AD8-B769-98A280DF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3A63-885D-4101-A9B0-7A9C731F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F0BA-364E-47C0-A6DE-73A65D03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82A1-620E-4DA8-B93A-A3D56CB1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B660-D295-4DE5-9C6D-BC4E364A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2BE64-4ECB-4C41-BEAC-1A24F8C4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0D829-5CBA-47AB-A59F-DE24593F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43741-2C55-4045-9B28-5EDC3EB7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94606-A02B-4F61-A85A-56AAFBB8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1EA38-437B-46CD-8E49-B490D859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8C6E-09C0-48DE-B501-6EAAD1AC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FDAC9-20A4-489F-B1C3-C19A9520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C2EB5-4EA8-44AC-A709-C2D5233E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D2E07-554B-4911-852E-238DA061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F0861-40CA-4654-956D-336136B8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25C99-8278-461C-8079-961B087C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5762A-A1D2-4481-9CB3-1F649309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8BC8F-BC0F-415B-B777-170A3124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4C595-DD7B-4979-89A8-C7ACC765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B3CEC-8A13-4EBA-A604-2559DE30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3717D-DD85-4FA6-AC50-C1BB36E1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80F-461C-4DA1-A52F-6B0C369A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E264B-05AF-43ED-AC4B-AAC5E0A4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AF822-FD74-47B6-8E88-7371AAFD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3654E-37E4-4D7E-A07B-4DB78200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72D0F-9DE2-4349-A1C5-9AFE1A80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27C52-BD2A-44FD-856C-DFAB35FF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766F6-A4B1-4FA9-A46A-BC6961FD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267A9-623F-4087-BB5B-6429583E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7A62F-B706-4C09-95BD-3316D5B4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CD53D-0688-445C-A687-9261DFA3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9A3B9-EF7A-4DAE-A9FA-4959E56D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C2ED-89A5-44CD-BAEC-80FB494E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81D5E-168E-401E-B9F8-DE8AAFB1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E84AB-1E19-4C4A-81D0-41F17847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A83DA-736F-443D-9694-9D13BDC3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84B5A-565D-4523-A512-F6124AEE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215CA-99E7-49C4-9D4F-AC89EA96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AED5C-ED04-4D25-A718-2F4BCEC8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6D614-F490-4418-8685-44ABC819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F4781-BFCD-489B-9DA2-53995D13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DD68F-88DE-42B2-A6FD-5175FF7C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8EBEC-4DBB-471C-AE91-F0F70902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D0A0-18AB-43FE-90ED-47EEE16E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4D40F-A670-47B6-A743-7E603CEA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77C81-B62C-4FF0-89C7-F59F57E6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EFC9B-C805-42B9-ABA1-C9200A1C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D5880-5B1D-4F7E-9143-9C73EFDF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34B0E-0A2A-4DA3-A901-34DED9E0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D9A13-680F-43EF-8966-156CA657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09F15-F357-4758-BF37-41B4D8B6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F4491-CDA9-4444-B237-C1DEB11A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B5E3D-0D6A-40BE-9DC8-416F5786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8C728-DD7D-4960-93E1-2199ED89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CEC-8F72-45D0-883C-D657ABEF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3288F-7F08-44C3-B639-A5F86F8E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F3145-4E54-4DA6-8567-B41B20E7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B8903-3B13-4E56-8DE4-C0525B1E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C81-591A-41B8-8825-47E345BE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9E49-5025-4A01-AE87-6073997C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reptunghi rotunjit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Dreptunghi rotunjit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Dreptunghi rotunjit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39F3-3E96-418F-974C-6DD37A78EBA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reptunghi rotunjit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Dreptunghi rotunjit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Dreptunghi rotunjit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4DDF-C2DE-4D22-9B4C-CCC8A7550E0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reptunghi rotunjit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Dreptunghi rotunjit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Dreptunghi rotunjit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4F5A-1F57-4AB4-B779-CE22731F248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reptunghi rotunjit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7039-F7FB-4FE0-87D6-CFB10872045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reptunghi rotunjit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Dreptunghi cu un colţ rotunjit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14F6-36B0-4A74-8B8B-99123064070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reptunghi rotunjit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Dreptunghi rotunjit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Dreptunghi rotunjit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8DC7-2CED-459E-9453-92787592F2E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0160" y="329760"/>
            <a:ext cx="7170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Bookman Old Style"/>
              </a:rPr>
              <a:t>FIŞA DE LUCRU S–V–I (K–W–L)</a:t>
            </a:r>
            <a:br>
              <a:rPr sz="2400"/>
            </a:br>
            <a:r>
              <a:rPr b="1" lang="ro-RO" sz="2400" spc="-1" strike="noStrike">
                <a:solidFill>
                  <a:srgbClr val="006600"/>
                </a:solidFill>
                <a:latin typeface="Bookman Old Style"/>
              </a:rPr>
              <a:t>GRUPA …. / Lecţia ……………………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990720" y="2057400"/>
          <a:ext cx="7924680" cy="3889440"/>
        </p:xfrm>
        <a:graphic>
          <a:graphicData uri="http://schemas.openxmlformats.org/drawingml/2006/table">
            <a:tbl>
              <a:tblPr/>
              <a:tblGrid>
                <a:gridCol w="2473200"/>
                <a:gridCol w="2438280"/>
                <a:gridCol w="3013200"/>
              </a:tblGrid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7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Ce …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1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ŞTIU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7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Ce …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1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VREAU SĂ ŞTIU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7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Ce …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1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ÎNVĂŢ/AM ÎNVĂŢA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Rectangle 18"/>
          <p:cNvSpPr/>
          <p:nvPr/>
        </p:nvSpPr>
        <p:spPr>
          <a:xfrm>
            <a:off x="609480" y="160020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6600cc"/>
                </a:solidFill>
                <a:latin typeface="Comic Sans MS"/>
              </a:rPr>
              <a:t>1.   Diagrama (Graficu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dica Dromereschi</dc:creator>
  <dc:description/>
  <dc:language>en-US</dc:language>
  <cp:lastModifiedBy>user</cp:lastModifiedBy>
  <dcterms:modified xsi:type="dcterms:W3CDTF">2010-08-23T07:55:5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